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1E9-5C54-4453-80F8-D56BFB7F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F3E-49BF-479B-90D0-7D4DA82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2AB-6AFD-4306-B71C-DB4663E5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D397-8D72-496E-9806-EA8CA6C8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9CB-3B30-40C0-B190-FC03243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50A7-C632-400E-A862-03277FE8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E97-1691-4FA3-B1F8-FC557C1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36F-724D-4655-A885-78E5B790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76D-4FB1-484C-802F-9B1A3B4D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768-469C-4B54-8265-835F477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46D-AB12-45AA-9A2B-F5AEF8D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E4E-7327-4CEE-93E6-A4943FF2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6BC-562C-4F8F-A8C0-9D365BEFA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Доноры и СМИ: </a:t>
            </a:r>
            <a:br>
              <a:rPr sz="5000"/>
            </a:br>
            <a:br>
              <a:rPr sz="5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жидания от коммуникаций и факторы успеш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7280" y="5516640"/>
            <a:ext cx="64008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заимны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жидания и претен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нор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И редко и мало пишут о благотвори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пишут, то не то и не 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МИ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раздражение от «навязывания» тем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доверие и осторожность к те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недостаточно глубокое знание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9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иболее частые ошиб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ращение «не по адрес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дход «вы долж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доведение до конца запланированн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нимание только к редакционным материал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ли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дакционный материа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дания в печатном вариа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йты и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заимодействие с коммерческими службам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яв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кладки (открытки, карточки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ли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Живое» участие в проекта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тнерство в реализации благотворительных программ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площадок для обсуждения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ощадки для обс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и и круглые ст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держка конференций партне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ы изданий, в том числе фор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инары для журналис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спешные коммуникации возможн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11:16:58Z</dcterms:created>
  <dc:creator>s.zherikov</dc:creator>
  <dc:description/>
  <dc:language>en-US</dc:language>
  <cp:lastModifiedBy>boss</cp:lastModifiedBy>
  <dcterms:modified xsi:type="dcterms:W3CDTF">2005-11-16T19:45:27Z</dcterms:modified>
  <cp:revision>46</cp:revision>
  <dc:subject/>
  <dc:title>Слайд 1</dc:title>
</cp:coreProperties>
</file>