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projcto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C72-586D-4B95-93DD-0EC68413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80010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4068000"/>
            <a:ext cx="80010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DBC-C3AD-42E3-9670-697FA28B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80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406800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0" y="406800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D82-8A9C-494D-BACD-E24D9BB3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520" y="176652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920" y="176652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406800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520" y="406800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920" y="406800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DCF-CDC3-42D7-AACD-8FFF6FBC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96C4-6180-430A-9520-1B5A84FE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766520"/>
            <a:ext cx="80010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0FFE-B5CA-4249-A26E-4277875A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80010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2B7A-764B-4362-9DCC-B3A04B9B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39042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8800" y="1766520"/>
            <a:ext cx="39042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63B0-89F2-4308-97E3-173FD663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02ED-C4AF-47BA-B8F1-97BECEE3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80720" y="837720"/>
            <a:ext cx="6629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103B-E837-464A-A6E0-F31FB997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8800" y="1766520"/>
            <a:ext cx="39042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406800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3AE8-576B-4345-B5A5-FC92BEC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766520"/>
            <a:ext cx="800100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2C07-6EE3-41D2-93A1-74C14357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39042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880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8800" y="406800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F2E9-B594-417C-B131-58714D8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80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4068000"/>
            <a:ext cx="80010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5EA1-977F-4A1D-921C-84385E4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80010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4068000"/>
            <a:ext cx="80010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645E-740C-4135-8AE0-8297C207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880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406800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8800" y="406800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D773-FCAA-4A96-9109-9508D46D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4520" y="176652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920" y="176652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406800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4520" y="406800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920" y="4068000"/>
            <a:ext cx="257616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5AEC-A0E8-4BBF-92D4-49994340D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80010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201-5FF3-4CCD-971F-B92BFA2F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39042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800" y="1766520"/>
            <a:ext cx="39042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EA7-BBB6-4865-8692-A0CCE7F2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A9E-EE98-412A-9781-8BFB5C6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80720" y="837720"/>
            <a:ext cx="6629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492-853E-4FB6-A05E-5BEC401A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800" y="1766520"/>
            <a:ext cx="39042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406800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E72B-0ADD-471B-B6C4-49149FF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39042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80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8800" y="406800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EBD-E94B-49B3-BA77-815A85A4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800" y="1766520"/>
            <a:ext cx="39042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068000"/>
            <a:ext cx="8001000" cy="21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D698-F1CF-4CA3-98A8-959B4DA9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2d35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2d3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2d3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2d3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2d35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2d3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3455-D64F-40A8-959A-7BF56FFFF2FF}" type="slidenum">
              <a:rPr b="0" lang="en-US" sz="1400" spc="-1" strike="noStrike">
                <a:solidFill>
                  <a:srgbClr val="772d3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120" y="1766520"/>
            <a:ext cx="80010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981080" y="53352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72d35"/>
                </a:solidFill>
                <a:latin typeface="Arial"/>
              </a:rPr>
              <a:t>ФОНД НЕКОММЕРЧЕСКИХ ПРОГРАММ «ДИНАСТИЯ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981080" y="1676520"/>
            <a:ext cx="6629400" cy="0"/>
          </a:xfrm>
          <a:prstGeom prst="line">
            <a:avLst/>
          </a:prstGeom>
          <a:ln w="15840">
            <a:solidFill>
              <a:srgbClr val="772d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3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96280" y="5105160"/>
            <a:ext cx="609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2d3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2d3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2d35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2d35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2d3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A7D1-F052-4DDC-9845-F7F9329A1730}" type="slidenum">
              <a:rPr b="0" lang="en-US" sz="1400" spc="-1" strike="noStrike">
                <a:solidFill>
                  <a:srgbClr val="772d3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772d3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d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5105160"/>
            <a:ext cx="5562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ww.dynastyfdn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6171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Ноября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00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4000" y="3124080"/>
            <a:ext cx="1755720" cy="581040"/>
          </a:xfrm>
          <a:prstGeom prst="rect">
            <a:avLst/>
          </a:prstGeom>
          <a:solidFill>
            <a:srgbClr val="77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–PROFIT PROGRAMS SUPPORT FOUND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780000"/>
            <a:ext cx="3384720" cy="792000"/>
          </a:xfrm>
          <a:prstGeom prst="rect">
            <a:avLst/>
          </a:prstGeom>
          <a:solidFill>
            <a:srgbClr val="772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Династия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26E8-B509-4C92-8BDF-E7F438BBFC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83808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d35"/>
                </a:solidFill>
                <a:latin typeface="Times New Roman"/>
              </a:rPr>
              <a:t>СТРАГЕГИЯ НА </a:t>
            </a:r>
            <a:r>
              <a:rPr b="1" lang="en-US" sz="2800" spc="-1" strike="noStrike">
                <a:solidFill>
                  <a:srgbClr val="772d35"/>
                </a:solidFill>
                <a:latin typeface="Times New Roman"/>
              </a:rPr>
              <a:t>2006-2007 </a:t>
            </a:r>
            <a:r>
              <a:rPr b="1" lang="ru-RU" sz="2800" spc="-1" strike="noStrike">
                <a:solidFill>
                  <a:srgbClr val="772d35"/>
                </a:solidFill>
                <a:latin typeface="Times New Roman"/>
              </a:rPr>
              <a:t>ГОДЫ</a:t>
            </a: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80010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2d35"/>
                </a:solidFill>
                <a:latin typeface="Times New Roman"/>
              </a:rPr>
              <a:t>МИССИЯ ФОН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оздание условий для жизни и работы в России талантливой молодеж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программ Фонда направлены на поддержку российской фундаментальной науки и предотвраще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чки мозг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Фонд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ализу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лантропичес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ледующих областя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и образ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пулярная нау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208-B398-46FF-851A-3A31435E47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d35"/>
                </a:solidFill>
                <a:latin typeface="Times New Roman"/>
              </a:rPr>
              <a:t>НАУКА И ОБРАЗОВАНИЕ</a:t>
            </a: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80010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72d35"/>
                </a:solidFill>
                <a:latin typeface="Times New Roman"/>
              </a:rPr>
              <a:t>ПРИНЦИПЫ ПОСТРОЕНИЯ ПРОЕКТОВ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Системный подх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й характ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растная преемственность целевых групп начиная со шко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с «агентами влияния» - преподавателями, эксперт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уляризация нау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развитию профессиональной сред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ерен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инар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бликации научных рабо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3AC-F722-49C8-B0FB-469A304AB1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d35"/>
                </a:solidFill>
                <a:latin typeface="Times New Roman"/>
              </a:rPr>
              <a:t>НАУКА И ОБРАЗОВАНИЕ</a:t>
            </a: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80010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направлением в науке, которое финансирует Фонд, яв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ся теоретическая физ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математика, отчасти - биолог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2d35"/>
                </a:solidFill>
                <a:latin typeface="Times New Roman"/>
              </a:rPr>
              <a:t>СИСТЕМА ДОЛГОСРОЧНЫХ ПРОЕКТОВ (1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кольная сред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российский грантовый конкурс для школьных учителей физики и математики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00 грантов в год + 2 конферен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программ и мероприятий для одаренных шк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пендии студентам старших курс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пендий в го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шее образование и наук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ты студентам-выпускника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аспиранта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позиции дл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лодых кандидатов нау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йчас – 36 позиций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жегод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ва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сять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зиций со сроком трудоустройства на 3 го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позиции для молодых докторов наук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в год начиная с 2006 г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D9F-AC84-4613-A5E6-D0E5AF358A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8377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d35"/>
                </a:solidFill>
                <a:latin typeface="Times New Roman"/>
              </a:rPr>
              <a:t>НАУКА И ОБРАЗОВАНИЕ</a:t>
            </a: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80010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72d35"/>
                </a:solidFill>
                <a:latin typeface="Times New Roman"/>
              </a:rPr>
              <a:t>СИСТЕМА ДОЛГОСРОЧНЫХ ПРОЕКТОВ (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е сообщество и научные конта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годная летняя школа по физи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годная научно-практическая конференция по физи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российский конкурс поддержки научных конференций (25-30 конференций в год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пуляризация нау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дание научно-популярной литера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бличные и научно-популярные лекции (6 в го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учно-популярные сай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2B9-A2D5-4C67-89ED-99FDAF5EDD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0720" y="8377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2d35"/>
                </a:solidFill>
                <a:latin typeface="Times New Roman"/>
              </a:rPr>
              <a:t>ИНФОРМАЦИЯ</a:t>
            </a:r>
            <a:endParaRPr b="1" lang="en-US" sz="2800" spc="-1" strike="noStrike">
              <a:solidFill>
                <a:srgbClr val="772d35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766520"/>
            <a:ext cx="80010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 информация о Фонде «Династия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тернет: </a:t>
            </a:r>
            <a:r>
              <a:rPr b="1" lang="en-US" sz="2200" spc="-1" strike="noStrike">
                <a:solidFill>
                  <a:srgbClr val="772d35"/>
                </a:solidFill>
                <a:latin typeface="Times New Roman"/>
              </a:rPr>
              <a:t>www.dynastyfdn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ail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772d35"/>
                </a:solidFill>
                <a:latin typeface="Times New Roman"/>
              </a:rPr>
              <a:t>contact@dynastyfdn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Teлефон 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+7-095-251-92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772d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акс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+7-095-251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5386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31E-C80C-4008-8E4E-713C092B16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6:46:50Z</dcterms:created>
  <dc:creator>A satisfied Microsoft Office User</dc:creator>
  <dc:description/>
  <dc:language>en-US</dc:language>
  <cp:lastModifiedBy>Slava Korneev</cp:lastModifiedBy>
  <dcterms:modified xsi:type="dcterms:W3CDTF">2005-11-18T06:13:09Z</dcterms:modified>
  <cp:revision>304</cp:revision>
  <dc:subject/>
  <dc:title>Фонд некоммерческих программ «Династия»</dc:title>
</cp:coreProperties>
</file>