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51F-C257-4FFA-8B5F-C1A89818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418-1010-45C0-82CF-9354D4D3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DDC-7ECA-423E-94AB-432E5762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92A-DED6-4BA7-89AD-48FD08E5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321-2FB9-4C17-BB20-0266D67B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00D-4320-4074-9FB0-F399E44E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9173-7943-48AF-B091-3699E684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D6A-F4CE-45AA-A02A-F97C9494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795-A1EA-40CA-B963-6E3FCB20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212-4921-4D1E-9F2E-C2D7BB0A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FC9-D410-4D05-B7C3-1ED9AED1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865-7F0C-4DEE-A6D3-560A69CE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801B-29EF-4850-AD8A-D60F8AFC6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03280" cy="898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9640" y="692280"/>
            <a:ext cx="388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00"/>
                </a:solidFill>
                <a:latin typeface="Arial"/>
              </a:rPr>
              <a:t>АМЕРИКАНСКИЙ ФОНД ГРАЖДАНСКИХ ИССЛЕДОВАНИЯ И РАЗВИ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00"/>
                </a:solidFill>
                <a:latin typeface="Arial"/>
              </a:rPr>
              <a:t>С.А. ЕГ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2781360"/>
            <a:ext cx="78501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ПРОГРАММА «ФУНДАМЕНТАЛЬНЫЕ ИССЛЕДОВАНИЯ И ВЫСШЕЕ ОБРАЗОВАНИЕ» 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ПОДДЕРЖКА НАУКИ И ОБРАЗОВАНИЯ В РОССИЙСКИХ УНИВЕРСИТЕ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03280" cy="898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4360" y="1557360"/>
            <a:ext cx="33829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АМЕРИКАНСКИЙ ФОНД ГРАЖДАНСКИХ ИССЛЕДОВАНИЙ И РАЗВИТ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08720" y="1557360"/>
            <a:ext cx="30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МИНИСТЕРСТВО ОБРАЗОВАНИЯ И НАУКИ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285264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ПРОГРАММА «ФУНДАМЕНТАЛЬНЫЕ ИССЛЕДОВАНИЯ И ВЫСШЕЕ ОБРАЗ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4221000"/>
            <a:ext cx="806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направлена на развитие фундаментальных исследований в области естественных наук в российских  государственных университетах путем создания высокопрофессиональных научно-образовательных центров (НО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03280" cy="898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47640" y="1793880"/>
            <a:ext cx="6553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Финансовая поддержка Фонда </a:t>
            </a:r>
            <a:br>
              <a:rPr sz="2000"/>
            </a:b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John D. and Catherine T. MacArthur</a:t>
            </a:r>
            <a:br>
              <a:rPr sz="2000"/>
            </a:b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и Carnegie Corporation of 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аритетное софинансирование </a:t>
            </a: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с российской стороны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Министерств</a:t>
            </a: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 образования </a:t>
            </a: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и науки 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РФ</a:t>
            </a: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 и региональные источн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Объем базового финансирования одного НОЦ  -   1 550 000 долларов США в течение 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00"/>
                </a:solidFill>
                <a:latin typeface="Arial"/>
              </a:rPr>
              <a:t>Общее финансирование – более 2-х миллионов долларов для одного НО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03280" cy="89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042920" y="2276640"/>
          <a:ext cx="7489800" cy="330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276640"/>
                    <a:ext cx="748980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191120" y="4343400"/>
            <a:ext cx="228600" cy="228600"/>
          </a:xfrm>
          <a:prstGeom prst="star5">
            <a:avLst/>
          </a:prstGeom>
          <a:gradFill rotWithShape="0">
            <a:gsLst>
              <a:gs pos="0">
                <a:srgbClr val="3911b9"/>
              </a:gs>
              <a:gs pos="100000">
                <a:srgbClr val="de0e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4267080"/>
            <a:ext cx="228600" cy="228600"/>
          </a:xfrm>
          <a:prstGeom prst="star5">
            <a:avLst/>
          </a:prstGeom>
          <a:gradFill rotWithShape="0">
            <a:gsLst>
              <a:gs pos="0">
                <a:srgbClr val="3911b9"/>
              </a:gs>
              <a:gs pos="100000">
                <a:srgbClr val="de0e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191120"/>
            <a:ext cx="228600" cy="228600"/>
          </a:xfrm>
          <a:prstGeom prst="star5">
            <a:avLst/>
          </a:prstGeom>
          <a:gradFill rotWithShape="0">
            <a:gsLst>
              <a:gs pos="0">
                <a:srgbClr val="3911b9"/>
              </a:gs>
              <a:gs pos="100000">
                <a:srgbClr val="de0e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886200"/>
            <a:ext cx="228600" cy="228600"/>
          </a:xfrm>
          <a:prstGeom prst="star5">
            <a:avLst/>
          </a:prstGeom>
          <a:gradFill rotWithShape="0">
            <a:gsLst>
              <a:gs pos="0">
                <a:srgbClr val="3911b9"/>
              </a:gs>
              <a:gs pos="100000">
                <a:srgbClr val="de0e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4038480"/>
            <a:ext cx="228600" cy="228600"/>
          </a:xfrm>
          <a:prstGeom prst="star5">
            <a:avLst/>
          </a:prstGeom>
          <a:gradFill rotWithShape="0">
            <a:gsLst>
              <a:gs pos="0">
                <a:srgbClr val="3911b9"/>
              </a:gs>
              <a:gs pos="100000">
                <a:srgbClr val="de0e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4114800"/>
            <a:ext cx="228600" cy="228600"/>
          </a:xfrm>
          <a:prstGeom prst="star5">
            <a:avLst/>
          </a:prstGeom>
          <a:gradFill rotWithShape="0">
            <a:gsLst>
              <a:gs pos="0">
                <a:srgbClr val="3911b9"/>
              </a:gs>
              <a:gs pos="100000">
                <a:srgbClr val="de0e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3505320"/>
            <a:ext cx="228600" cy="228600"/>
          </a:xfrm>
          <a:prstGeom prst="star5">
            <a:avLst/>
          </a:prstGeom>
          <a:gradFill rotWithShape="0">
            <a:gsLst>
              <a:gs pos="0">
                <a:srgbClr val="3911b9"/>
              </a:gs>
              <a:gs pos="100000">
                <a:srgbClr val="de0e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971800"/>
            <a:ext cx="228600" cy="228600"/>
          </a:xfrm>
          <a:prstGeom prst="star5">
            <a:avLst/>
          </a:prstGeom>
          <a:gradFill rotWithShape="0">
            <a:gsLst>
              <a:gs pos="0">
                <a:srgbClr val="3911b9"/>
              </a:gs>
              <a:gs pos="100000">
                <a:srgbClr val="de0e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3048120"/>
            <a:ext cx="381240" cy="304560"/>
          </a:xfrm>
          <a:prstGeom prst="star5">
            <a:avLst/>
          </a:prstGeom>
          <a:gradFill rotWithShape="0">
            <a:gsLst>
              <a:gs pos="0">
                <a:srgbClr val="3911b9"/>
              </a:gs>
              <a:gs pos="100000">
                <a:srgbClr val="de0e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4114800"/>
            <a:ext cx="228600" cy="228600"/>
          </a:xfrm>
          <a:prstGeom prst="star5">
            <a:avLst/>
          </a:prstGeom>
          <a:gradFill rotWithShape="0">
            <a:gsLst>
              <a:gs pos="0">
                <a:srgbClr val="3911b9"/>
              </a:gs>
              <a:gs pos="100000">
                <a:srgbClr val="de0e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3733920"/>
            <a:ext cx="228600" cy="228600"/>
          </a:xfrm>
          <a:prstGeom prst="star5">
            <a:avLst/>
          </a:prstGeom>
          <a:gradFill rotWithShape="0">
            <a:gsLst>
              <a:gs pos="0">
                <a:srgbClr val="3911b9"/>
              </a:gs>
              <a:gs pos="100000">
                <a:srgbClr val="de0e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4800600"/>
            <a:ext cx="228600" cy="228600"/>
          </a:xfrm>
          <a:prstGeom prst="star5">
            <a:avLst/>
          </a:prstGeom>
          <a:gradFill rotWithShape="0">
            <a:gsLst>
              <a:gs pos="0">
                <a:srgbClr val="3911b9"/>
              </a:gs>
              <a:gs pos="100000">
                <a:srgbClr val="de0e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3886200"/>
            <a:ext cx="228600" cy="228600"/>
          </a:xfrm>
          <a:prstGeom prst="star5">
            <a:avLst/>
          </a:prstGeom>
          <a:gradFill rotWithShape="0">
            <a:gsLst>
              <a:gs pos="0">
                <a:srgbClr val="3911b9"/>
              </a:gs>
              <a:gs pos="100000">
                <a:srgbClr val="de0e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886200"/>
            <a:ext cx="228600" cy="228600"/>
          </a:xfrm>
          <a:prstGeom prst="star5">
            <a:avLst/>
          </a:prstGeom>
          <a:gradFill rotWithShape="0">
            <a:gsLst>
              <a:gs pos="0">
                <a:srgbClr val="3911b9"/>
              </a:gs>
              <a:gs pos="100000">
                <a:srgbClr val="de0e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4572000"/>
            <a:ext cx="228600" cy="228600"/>
          </a:xfrm>
          <a:prstGeom prst="star5">
            <a:avLst/>
          </a:prstGeom>
          <a:gradFill rotWithShape="0">
            <a:gsLst>
              <a:gs pos="0">
                <a:srgbClr val="3911b9"/>
              </a:gs>
              <a:gs pos="100000">
                <a:srgbClr val="de0e4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30481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162864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СОЗДАНО 16 НАУЧНО-ОБРАЗОВАТЕЛЬНЫХ ЦЕН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03280" cy="898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95640" y="1557360"/>
            <a:ext cx="54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141300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КАК СОЗДАВАЛАСЬ ПРОГРАМ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76360" y="2133720"/>
            <a:ext cx="6696000" cy="40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БЫЛА СОЗДАНА АВТОРИТЕТНАЯ РАБОЧАЯ ГРУППА И ПРОВЕДЕН АНАЛИЗ СОСТОЯНИЯ ДЕЛ И ПОТРЕБНОСТЕЙ В РОССИЙСКОМ ВЫСШЕМ ОБРАЗОВА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БЫЛИ ОПРЕДЕЛЕНЫ ПРИОРИТЕТНЫЕ НАПРАВЛЕНИЯ ПОДДЕРЖ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ИНТЕГРАЦИЯ НАУКИ И ОБРАЗОВАНИЯ В 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УНИВЕРСИТЕТАХ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ОБНОВЛЕНИЕ ОБОРУДОВАНИЯ И 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ЛАБОРАТОРНОЙ 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БА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ПОДДЕРЖКА СТУДЕНТОВ, АСПИРАНТОВ И 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МОЛОДЫХ УЧЕ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РАЗВИТИЕ ВНЕШНИХ СВЯЗ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03280" cy="898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195640" y="1557360"/>
            <a:ext cx="54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141300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КАК РАБОТАЕТ ПРОГРАМ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360" y="2133720"/>
            <a:ext cx="669600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СОЗДАНЫ СОВМЕСТНЫЕ РОССИЙСКО-АМЕРИКАНСКИЕ РУКОВОДЯЩИЕ ОРГАНЫ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ПРИНЦИПЫ ФУНКЦИОНИРОВАНИЯ ПРОГРАММ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ПРОЗРАЧНОСТЬ ПРИНИМАЕМЫХ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ПОСТОЯННЫЙ МОНИТОРИНГ НО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РЕГУЛЯРНЫЕ КОНФЕРЕНЦИИ НО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ПОДДЕРЖКА ИНИЦИАТИВ НО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РЕГУЛЯРНЫЕ ЗАСЕДАНИЯ РУКОВОДЯЩЕГО 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СОВЕТА, АНАЛИЗ И КОРРЕКТИРОВКА 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ПРОГРАМ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03280" cy="898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95640" y="1557360"/>
            <a:ext cx="54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141300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КАК РАЗВИВАЕТСЯ ПРОГРАМ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58920" y="2060640"/>
            <a:ext cx="7343640" cy="39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УМЕНЬШЕНИЕ БАЗОВОГО ФИНАНСИРОВАНИЯ НО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ВЫДЕЛЕНИЕ ДОПОЛНИТЕЛЬНЫХ ГРАНТОВ НА КОНКУРСНОЙ ОСН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ПОДПРОГРАММА МИНИГРА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КОНКУРС ГРАНТОВ ДЛЯ МОЛОДЫХ УЧЕ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КОНКУРС ГРАНТОВ НА ОБОРУД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ПРОГРАММА КОММЕРЦИАЛИЗАЦИИ ТЕХНОЛОГ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ПРОГРАММА  ПОВЫШЕНИЯ КВАЛИФИКАЦИИ 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УПРАВЛЕНЧЕСКИХ КАДРОВ УНИВЕРСИТ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ПРОГРАММА ПРОЕКТНЫХ ГРА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03280" cy="898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95640" y="1557360"/>
            <a:ext cx="54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87280" y="1413000"/>
            <a:ext cx="58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НАСКОЛЬКО ЭФФЕКТИВНА ПРОГРАМ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2637000"/>
            <a:ext cx="6696000" cy="35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00"/>
                </a:solidFill>
                <a:latin typeface="Arial"/>
              </a:rPr>
              <a:t>В 2005 ГОДУ МИНИСТЕРСТВО ОБРАЗОВАНИЯ И НАУКИ РФ ПРИНЯЛО РЕШЕНИЕ О СОЗДАНИИ НА КОНКУРСНОЙ ОСНОВЕ НОВЫХ 15 НАУЧНО ОБРАЗОВАТЕЛЬНЫХ ЦЕН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00"/>
                </a:solidFill>
                <a:latin typeface="Arial"/>
              </a:rPr>
              <a:t>ФИНАНСИРОВАНИЕ ЦЕНТРОВ БУДЕТ ОСУЩЕСТВЛЯТЬ ТОЛЬКО РОССИЙСКАЯ СТОР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Arial"/>
              </a:rPr>
              <a:t>CRDF</a:t>
            </a:r>
            <a:r>
              <a:rPr b="1" lang="ru-RU" sz="1600" spc="-1" strike="noStrike">
                <a:solidFill>
                  <a:srgbClr val="996600"/>
                </a:solidFill>
                <a:latin typeface="Arial"/>
              </a:rPr>
              <a:t> БЫЛ ПРИГЛАШЕН УЧАСТВОВАТЬ В УПРАВЛЕНИИ НОВОЙ ПРОГРАМ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66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9966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03280" cy="898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195640" y="1557360"/>
            <a:ext cx="547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435640" y="3573360"/>
            <a:ext cx="3141720" cy="235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3708360" cy="2781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84720" y="170028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ВОПРОС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5300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СПАСИБО ЗА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9:36:58Z</dcterms:created>
  <dc:creator>egorov</dc:creator>
  <dc:description/>
  <dc:language>en-US</dc:language>
  <cp:lastModifiedBy>egorov</cp:lastModifiedBy>
  <dcterms:modified xsi:type="dcterms:W3CDTF">2005-11-17T16:22:23Z</dcterms:modified>
  <cp:revision>29</cp:revision>
  <dc:subject/>
  <dc:title>Слайд 1</dc:title>
</cp:coreProperties>
</file>