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69DB-9187-459D-A530-536B2115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4A73A-6B23-4201-AEB8-190BB15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130D-DDC3-42A4-8719-1B9EB34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F0201-5A9D-44EE-AA76-6A92B837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2F5-EFBA-4F5F-98A8-FF531294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1696-C14B-4BC1-B07B-B58CA7E7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8A05-49F8-4F3C-904E-2ACDFDE9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8C20-1907-47D4-842C-750B954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559-E15E-47F5-970B-8A508170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CE9F-117F-49B8-A0F5-01EFF35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3941-4978-4329-9E79-847B9AA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572B-B05C-4741-B690-68C8527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172-7147-405C-8F95-D363E0F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B41D-D53A-4694-87AA-2E11EB4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B35D-F8B6-465A-9C38-85D92E80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B065-81DD-4214-84D4-058EF6DD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FD2D-7F3D-4D70-B4F5-11979AA3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A92C3-A9CB-4546-89EE-F67ED9B2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6BD0-D52A-4528-8DBF-D677302D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8F2CD-2464-42BC-BC68-C6C9C348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FA89-920B-417F-B3D7-5E143A4A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6139-5E06-423A-AD0B-BCAE174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AD85-6466-47A8-9BC3-C403330B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B344B-8002-4509-8A2A-D173FB6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4692-E2EF-4AF1-A00D-05B8DD35CA28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3419640" y="6021360"/>
            <a:ext cx="2172960" cy="695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3"/>
          <a:stretch/>
        </p:blipFill>
        <p:spPr>
          <a:xfrm>
            <a:off x="684360" y="5773680"/>
            <a:ext cx="1676160" cy="10843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4"/>
          <a:stretch/>
        </p:blipFill>
        <p:spPr>
          <a:xfrm>
            <a:off x="6588000" y="6165720"/>
            <a:ext cx="21924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5639-60A5-484D-9807-68E35575EE6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88000" y="5229360"/>
            <a:ext cx="2173320" cy="695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588000" y="6165720"/>
            <a:ext cx="2192400" cy="50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588000" y="4437000"/>
            <a:ext cx="1676520" cy="1084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ED WAY MOSCOW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437000"/>
            <a:ext cx="3635280" cy="19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17 ноября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ергей Рябокобыл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Старший исполнительный 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WSR-logo-color" descr=""/>
          <p:cNvPicPr/>
          <p:nvPr/>
        </p:nvPicPr>
        <p:blipFill>
          <a:blip r:embed="rId1"/>
          <a:stretch/>
        </p:blipFill>
        <p:spPr>
          <a:xfrm>
            <a:off x="1042920" y="6021360"/>
            <a:ext cx="1819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НОРСКАЯ ПОЛИТ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Социальные программ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Организации, </a:t>
            </a: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официально зарегистрированные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в России и работающие в соответствии с российским законодательством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Некоммерческие негосударственные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организ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Организации, существующие в течение </a:t>
            </a: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как минимум года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не должна быть единственным источником финансирования данной организ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Организации, ведущие надлежащий </a:t>
            </a: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финансовый учет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и предоставляющие свободный доступ к бухгалтерским  документам представителям </a:t>
            </a:r>
            <a:r>
              <a:rPr b="0" lang="en-US" sz="11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Использование финансирования исключительно на нужды, заложенные в бюджет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Регулярное предоставление </a:t>
            </a:r>
            <a:r>
              <a:rPr b="1" lang="ru-RU" sz="1100" spc="-1" strike="noStrike">
                <a:solidFill>
                  <a:srgbClr val="00007d"/>
                </a:solidFill>
                <a:latin typeface="Arial"/>
              </a:rPr>
              <a:t>письменных отчетов об использовании выделенных средств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в течение всего периода финанс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1400" spc="-1" strike="noStrike" u="sng">
                <a:solidFill>
                  <a:srgbClr val="00007d"/>
                </a:solidFill>
                <a:uFillTx/>
                <a:latin typeface="Arial"/>
              </a:rPr>
              <a:t>Процедура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Заявление на получение финансирования, документы о регистрации, подробное описание и бюджет проект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Соответствие основным критериям </a:t>
            </a:r>
            <a:r>
              <a:rPr b="0" lang="en-US" sz="11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Финансовый аудит аккредитованной российской аудиторской компание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Рассмотрение претендента в рамках Комитет</a:t>
            </a:r>
            <a:r>
              <a:rPr b="0" lang="en-US" sz="11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 по Распределению Финансирования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Посещение благотворительной организации, интервью с руководителями проекта и благополучателям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Одобрение Советом Директор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7d"/>
                </a:solidFill>
                <a:latin typeface="Arial"/>
              </a:rPr>
              <a:t>Контроль за использованием средств на протяжении всего периода финанс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11280" y="9684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ые организации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1400" spc="-1" strike="noStrike" u="sng">
                <a:solidFill>
                  <a:srgbClr val="00007d"/>
                </a:solidFill>
                <a:uFillTx/>
                <a:latin typeface="Arial"/>
              </a:rPr>
              <a:t>Критерии отбора организаций для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765000"/>
            <a:ext cx="8208720" cy="1511640"/>
          </a:xfrm>
          <a:prstGeom prst="rect">
            <a:avLst/>
          </a:prstGeom>
          <a:solidFill>
            <a:srgbClr val="e3e3f1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765000"/>
            <a:ext cx="81374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7d"/>
                </a:solidFill>
                <a:uFillTx/>
                <a:latin typeface="Arial"/>
              </a:rPr>
              <a:t>Доноры в 2004 году</a:t>
            </a:r>
            <a:r>
              <a:rPr b="1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Частные лица – 59 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Компании – 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7d"/>
                </a:solidFill>
                <a:uFillTx/>
                <a:latin typeface="Arial"/>
              </a:rPr>
              <a:t>В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Частные лица – 45</a:t>
            </a: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Компании – 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7d"/>
                </a:solidFill>
                <a:latin typeface="Arial"/>
              </a:rPr>
              <a:t>В том чис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2637000"/>
          <a:ext cx="8640720" cy="4204800"/>
        </p:xfrm>
        <a:graphic>
          <a:graphicData uri="http://schemas.openxmlformats.org/drawingml/2006/table">
            <a:tbl>
              <a:tblPr/>
              <a:tblGrid>
                <a:gridCol w="2881080"/>
                <a:gridCol w="2878200"/>
                <a:gridCol w="2881440"/>
              </a:tblGrid>
              <a:tr h="42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Аmerican Expres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ol Cadbury L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trol C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runswick U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hilip Morris Sales &amp;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ritish American Tobac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oeing Corp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xxonMobil 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Unit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ritish Petrole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illet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Vimpelc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Japan Tobacco</a:t>
                      </a:r>
                      <a:r>
                        <a:rPr b="0" lang="ru-RU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tern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hite &amp; Case L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iti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ca-Cola HBC Eur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psi Bottling 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Wrig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0800000">
            <a:off x="4606560" y="549000"/>
            <a:ext cx="4537080" cy="151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0800000">
            <a:off x="-360" y="549000"/>
            <a:ext cx="4537080" cy="1511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49360"/>
            <a:ext cx="3816360" cy="15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Средний разме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ожертвований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2003 – 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$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11,8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2004 - 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$11,3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2005 - $15,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620640"/>
            <a:ext cx="38163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Общий объ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ожертвовани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2005 г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.: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$750,000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2006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цель)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: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$9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42920" y="2205000"/>
          <a:ext cx="705816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05000"/>
                    <a:ext cx="70581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971360" y="373320"/>
            <a:ext cx="1995120" cy="2322000"/>
            <a:chOff x="1971360" y="373320"/>
            <a:chExt cx="1995120" cy="2322000"/>
          </a:xfrm>
        </p:grpSpPr>
        <p:sp>
          <p:nvSpPr>
            <p:cNvPr id="158" name="_s66592"/>
            <p:cNvSpPr/>
            <p:nvPr/>
          </p:nvSpPr>
          <p:spPr>
            <a:xfrm>
              <a:off x="1971360" y="974520"/>
              <a:ext cx="1995120" cy="1720800"/>
            </a:xfrm>
            <a:prstGeom prst="ellipse">
              <a:avLst/>
            </a:prstGeom>
            <a:solidFill>
              <a:srgbClr val="d8d8ec">
                <a:alpha val="50000"/>
              </a:srgbClr>
            </a:solidFill>
            <a:ln w="468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6593"/>
            <p:cNvSpPr/>
            <p:nvPr/>
          </p:nvSpPr>
          <p:spPr>
            <a:xfrm>
              <a:off x="1971360" y="373320"/>
              <a:ext cx="199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рограммы для детей-инвали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9280" y="549360"/>
            <a:ext cx="8713800" cy="4957560"/>
            <a:chOff x="179280" y="549360"/>
            <a:chExt cx="8713800" cy="4957560"/>
          </a:xfrm>
        </p:grpSpPr>
        <p:sp>
          <p:nvSpPr>
            <p:cNvPr id="161" name="_s66605"/>
            <p:cNvSpPr/>
            <p:nvPr/>
          </p:nvSpPr>
          <p:spPr>
            <a:xfrm>
              <a:off x="3931560" y="2329200"/>
              <a:ext cx="2018520" cy="150624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4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6606"/>
            <p:cNvSpPr/>
            <p:nvPr/>
          </p:nvSpPr>
          <p:spPr>
            <a:xfrm>
              <a:off x="3954600" y="1803240"/>
              <a:ext cx="19731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Arial"/>
                </a:rPr>
                <a:t>Программы для инвалид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6607"/>
            <p:cNvSpPr/>
            <p:nvPr/>
          </p:nvSpPr>
          <p:spPr>
            <a:xfrm>
              <a:off x="4699440" y="2902320"/>
              <a:ext cx="2018520" cy="150588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46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6608"/>
            <p:cNvSpPr/>
            <p:nvPr/>
          </p:nvSpPr>
          <p:spPr>
            <a:xfrm>
              <a:off x="6919200" y="3467880"/>
              <a:ext cx="197388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Arial"/>
                </a:rPr>
                <a:t>Программы дл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Arial"/>
                </a:rPr>
                <a:t>престарелых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6609"/>
            <p:cNvSpPr/>
            <p:nvPr/>
          </p:nvSpPr>
          <p:spPr>
            <a:xfrm>
              <a:off x="3931560" y="3474720"/>
              <a:ext cx="2018520" cy="1506240"/>
            </a:xfrm>
            <a:prstGeom prst="ellipse">
              <a:avLst/>
            </a:prstGeom>
            <a:solidFill>
              <a:srgbClr val="cccce6">
                <a:alpha val="50000"/>
              </a:srgbClr>
            </a:solidFill>
            <a:ln w="468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6610"/>
            <p:cNvSpPr/>
            <p:nvPr/>
          </p:nvSpPr>
          <p:spPr>
            <a:xfrm>
              <a:off x="3954600" y="5131440"/>
              <a:ext cx="1973160" cy="3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7d"/>
                  </a:solidFill>
                  <a:latin typeface="Arial"/>
                </a:rPr>
                <a:t>Программы для бездомных 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7d"/>
                  </a:solidFill>
                  <a:latin typeface="Arial"/>
                </a:rPr>
                <a:t>беженце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66611"/>
            <p:cNvSpPr/>
            <p:nvPr/>
          </p:nvSpPr>
          <p:spPr>
            <a:xfrm>
              <a:off x="3164400" y="2902320"/>
              <a:ext cx="2017800" cy="1505880"/>
            </a:xfrm>
            <a:prstGeom prst="ellipse">
              <a:avLst/>
            </a:prstGeom>
            <a:solidFill>
              <a:srgbClr val="9999cc">
                <a:alpha val="50000"/>
              </a:srgbClr>
            </a:solidFill>
            <a:ln w="468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6612"/>
            <p:cNvSpPr/>
            <p:nvPr/>
          </p:nvSpPr>
          <p:spPr>
            <a:xfrm>
              <a:off x="989640" y="3467880"/>
              <a:ext cx="197316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Arial"/>
                </a:rPr>
                <a:t>Программы для дете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9280" y="549360"/>
              <a:ext cx="58964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492360" y="5445000"/>
            <a:ext cx="2305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Гражданское Содейств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Грати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49360"/>
            <a:ext cx="2413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7d"/>
                </a:solidFill>
                <a:latin typeface="Arial"/>
              </a:rPr>
              <a:t>Программы для детей- инвали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Род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Добр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Дорога в Ми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00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360" y="2997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162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ые организации за 200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5080" y="2997360"/>
            <a:ext cx="2297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7d"/>
                </a:solidFill>
                <a:latin typeface="Arial"/>
              </a:rPr>
              <a:t>Программы для де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Большая Переме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Защита Детей от Насил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3068640"/>
            <a:ext cx="2663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7d"/>
                </a:solidFill>
                <a:latin typeface="Arial"/>
              </a:rPr>
              <a:t>Программы для престарел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Блокадн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Милосерд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Доброе Дел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Хороше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98160" y="765000"/>
            <a:ext cx="28018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7d"/>
                </a:solidFill>
                <a:latin typeface="Arial"/>
              </a:rPr>
              <a:t>Программы для инвалид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Барвих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Кр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Преодоле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ШИ ПЛАН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Увеличение  объема пожертвований за счет увеличения источников финансирования: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Привлечение сотрудников компаний к личному участию в работе 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, помощи благотворительным организациям и пожертвованиям (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UBS,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Conoco Philli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Привлечение потребителей продуктов / услуг компаний – доноров 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BP – 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«стенды для пожертвований»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, VinLund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 (20% от стоимости покупки отчисляется в 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)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, DHL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–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«стенды для пожертвований»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Корпоративные мероприятия для сбора пожертвований (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благотворительный боулинг-турнир, гольф-турнир 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Deloitte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Личные и корпоративные пожертв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Помощь благотворительным организациям в развит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Устойчивое развитие и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Регламентация  и стандартизация проце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От стихийной организации – к серьёзной структурированной организации, соответствующей всей критериям </a:t>
            </a:r>
            <a:r>
              <a:rPr b="0" lang="en-US" sz="1400" spc="-1" strike="noStrike">
                <a:solidFill>
                  <a:srgbClr val="00007d"/>
                </a:solidFill>
                <a:latin typeface="Arial"/>
              </a:rPr>
              <a:t>U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Бесплатное предоставление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t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 профессиональных услуг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i="1" lang="en-US" sz="1400" spc="-1" strike="noStrike">
                <a:solidFill>
                  <a:srgbClr val="00007d"/>
                </a:solidFill>
                <a:latin typeface="Arial"/>
              </a:rPr>
              <a:t>CBSD</a:t>
            </a:r>
            <a:r>
              <a:rPr b="1" i="1" lang="ru-RU" sz="1400" spc="-1" strike="noStrike">
                <a:solidFill>
                  <a:srgbClr val="00007d"/>
                </a:solidFill>
                <a:latin typeface="Arial"/>
              </a:rPr>
              <a:t> - бесплатный тренинг для сотрудников благотворительных организаций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Увеличение количества финансируемых благотворительный организаций и програм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Развитие региональных организаций по модели 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UW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и пл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981000"/>
            <a:ext cx="82296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«Юнайтед Уэй» в мире и «Юнайтед Уэй Моск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Наша страте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Наши приорит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Донорская поли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Наши пл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96840"/>
            <a:ext cx="8229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ЮНАЙТЕД УЭЙ» В МИРЕ И «ЮНАЙТЕД УЭЙ МОСКВ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648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«Юнайтед Уэй» в мире и «Юнайтед Уэй Москв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129852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380880" cy="399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042920" y="4221000"/>
            <a:ext cx="1324080" cy="676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71640" y="1197000"/>
            <a:ext cx="5689800" cy="14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Радуга, вырастающая из руки помощи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 символ надежды, которую дает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U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UW International </a:t>
            </a: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1887 год (СШ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UW Moscow </a:t>
            </a: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199</a:t>
            </a: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г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43280" y="2637000"/>
            <a:ext cx="57261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Человечество – весь мир, которому помогает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1" lang="en-GB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5 контин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45 стран мира, в том числе 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Россия, Беларусь, Польша, Румыния, Венгрия, Бель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4221000"/>
            <a:ext cx="5726160" cy="17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Рука помощи – программы, которые существуют благодаря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3000 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организаций </a:t>
            </a: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United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Way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в 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45 странах мира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Более</a:t>
            </a: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 2 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млн</a:t>
            </a:r>
            <a:r>
              <a:rPr b="0" lang="en-GB" sz="1200" spc="-1" strike="noStrike">
                <a:solidFill>
                  <a:srgbClr val="00007d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волонтеров по всему мир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UW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2004 – 2005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$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3.86 млрд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2004 -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$626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6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2005 – 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ок. </a:t>
            </a:r>
            <a:r>
              <a:rPr b="1" lang="en-US" sz="1200" spc="-1" strike="noStrike">
                <a:solidFill>
                  <a:srgbClr val="00007d"/>
                </a:solidFill>
                <a:latin typeface="Arial"/>
              </a:rPr>
              <a:t>$</a:t>
            </a:r>
            <a:r>
              <a:rPr b="1" lang="ru-RU" sz="1200" spc="-1" strike="noStrike">
                <a:solidFill>
                  <a:srgbClr val="00007d"/>
                </a:solidFill>
                <a:latin typeface="Arial"/>
              </a:rPr>
              <a:t>75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673200"/>
            <a:ext cx="8229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7d"/>
                </a:solidFill>
                <a:latin typeface="Arial"/>
              </a:rPr>
              <a:t>Миссия </a:t>
            </a:r>
            <a:r>
              <a:rPr b="0" i="1" lang="en-US" sz="1200" spc="-1" strike="noStrike">
                <a:solidFill>
                  <a:srgbClr val="00007d"/>
                </a:solidFill>
                <a:latin typeface="Arial"/>
              </a:rPr>
              <a:t>UWM</a:t>
            </a:r>
            <a:r>
              <a:rPr b="0" i="1" lang="ru-RU" sz="1200" spc="-1" strike="noStrike">
                <a:solidFill>
                  <a:srgbClr val="00007d"/>
                </a:solidFill>
                <a:latin typeface="Arial"/>
              </a:rPr>
              <a:t> – способствовать развитию благотворительности и поддерживать крупные благотворительные организации в Москве для решения самых острых социальных пробл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ША СТРАТЕГ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3284640"/>
            <a:ext cx="8353440" cy="2305080"/>
          </a:xfrm>
          <a:prstGeom prst="rect">
            <a:avLst/>
          </a:prstGeom>
          <a:solidFill>
            <a:srgbClr val="e3e3f1"/>
          </a:solidFill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тратегия финансирования – </a:t>
            </a: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UW International:</a:t>
            </a:r>
            <a:r>
              <a:rPr b="0" lang="en-US" sz="16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Единой глобальной стратегии </a:t>
            </a:r>
            <a:r>
              <a:rPr b="0" lang="en-US" sz="1500" spc="-1" strike="noStrike">
                <a:solidFill>
                  <a:srgbClr val="00007d"/>
                </a:solidFill>
                <a:latin typeface="Arial"/>
              </a:rPr>
              <a:t>UW</a:t>
            </a: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 не существу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Стратегия </a:t>
            </a:r>
            <a:r>
              <a:rPr b="0" lang="en-US" sz="1500" spc="-1" strike="noStrike">
                <a:solidFill>
                  <a:srgbClr val="00007d"/>
                </a:solidFill>
                <a:latin typeface="Arial"/>
              </a:rPr>
              <a:t>UW</a:t>
            </a: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 в каждой стране отражает местные особенности  и потребности об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Во многих странах "Юнайтед Уэй" финансирует не только социальные программы, но и развитие образования (Колумбия), улучшение системы государственного здравоохранения (Корея), защиту окружающей среды (Бразил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Стратегия финансирования </a:t>
            </a:r>
            <a:r>
              <a:rPr b="1" lang="en-US" sz="1600" spc="-1" strike="noStrike" u="sng">
                <a:solidFill>
                  <a:srgbClr val="00007d"/>
                </a:solidFill>
                <a:uFillTx/>
                <a:latin typeface="Arial"/>
              </a:rPr>
              <a:t>– UWM</a:t>
            </a: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 </a:t>
            </a:r>
            <a:r>
              <a:rPr b="1" lang="en-GB" sz="1600" spc="-1" strike="noStrike" u="sng">
                <a:solidFill>
                  <a:srgbClr val="00007d"/>
                </a:solidFill>
                <a:uFillTx/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Социальные программы по обеспечению основных нужд социально незащищенных слоев населения Москвы и Московской области (питание, жилье, одежда, гигиена и медицинское обслуживание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Соотношение программ “</a:t>
            </a:r>
            <a:r>
              <a:rPr b="0" lang="en-US" sz="1500" spc="-1" strike="noStrike">
                <a:solidFill>
                  <a:srgbClr val="00007d"/>
                </a:solidFill>
                <a:latin typeface="Arial"/>
              </a:rPr>
              <a:t>intervention</a:t>
            </a: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” («Вмешательство») и “</a:t>
            </a:r>
            <a:r>
              <a:rPr b="0" lang="en-US" sz="1500" spc="-1" strike="noStrike">
                <a:solidFill>
                  <a:srgbClr val="00007d"/>
                </a:solidFill>
                <a:latin typeface="Arial"/>
              </a:rPr>
              <a:t>prevention</a:t>
            </a: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” («Предотвращение»): примерно 60% на 40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4 целевые группы насел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а стратег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ШИ ПРИОРИТ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-2700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приоритетов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WM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Сформировались в 1990 год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Использование статистики из официальных источников о социальных нуждах населения: среднемесячная пенсия в Москве, количество коек для бездомных в государственных приютах, статистика по социальному сиротству, объемы государственной помощи инвалида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Ежегодная встреча Совета Директоров – </a:t>
            </a:r>
            <a:r>
              <a:rPr b="0" lang="en-US" sz="1500" spc="-1" strike="noStrike">
                <a:solidFill>
                  <a:srgbClr val="00007d"/>
                </a:solidFill>
                <a:latin typeface="Arial"/>
              </a:rPr>
              <a:t>R</a:t>
            </a:r>
            <a:r>
              <a:rPr b="0" lang="ru-RU" sz="1500" spc="-1" strike="noStrike">
                <a:solidFill>
                  <a:srgbClr val="00007d"/>
                </a:solidFill>
                <a:latin typeface="Arial"/>
              </a:rPr>
              <a:t>etreat: решения о  приоритетах организации в следующем год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87280" y="3213000"/>
            <a:ext cx="3384720" cy="2670120"/>
          </a:xfrm>
          <a:prstGeom prst="ellipse">
            <a:avLst/>
          </a:prstGeom>
          <a:solidFill>
            <a:srgbClr val="e3e3f1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549360"/>
            <a:ext cx="3384720" cy="2670120"/>
          </a:xfrm>
          <a:prstGeom prst="ellipse">
            <a:avLst/>
          </a:prstGeom>
          <a:solidFill>
            <a:srgbClr val="e3e3f1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279600"/>
            <a:ext cx="3384720" cy="2670480"/>
          </a:xfrm>
          <a:prstGeom prst="ellipse">
            <a:avLst/>
          </a:prstGeom>
          <a:solidFill>
            <a:srgbClr val="e3e3f1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49360"/>
            <a:ext cx="3384720" cy="2670120"/>
          </a:xfrm>
          <a:prstGeom prst="ellipse">
            <a:avLst/>
          </a:prstGeom>
          <a:solidFill>
            <a:srgbClr val="e3e3f1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701640"/>
            <a:ext cx="345744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Сироты и дети в             ситуации р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Консультирование семе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бразовательные програм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Медицинское обслуживани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Адаптация выпускник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интерна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2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27640" y="549360"/>
            <a:ext cx="360036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Инвали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Реабилитационные и              образовательные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Психологическая помощь семь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Юридическ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3613320"/>
            <a:ext cx="3313440" cy="22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Престарел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Медицинское обслуживание, лекарства и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Бесплатное пи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Забота о лежачих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7d"/>
                </a:solidFill>
                <a:latin typeface="Arial"/>
              </a:rPr>
              <a:t>Юридическ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16360" y="3610080"/>
            <a:ext cx="324036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Arial"/>
              </a:rPr>
              <a:t>Бездомные и бежен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Столовая для бездом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бразовательный центр для детей беженце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Обувь и медикамент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14"/>
              </a:spcBef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7d"/>
                </a:solidFill>
                <a:latin typeface="Arial"/>
              </a:rPr>
              <a:t>Тренинги по предотвращению ксенофоби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ши приоритет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3:54:23Z</dcterms:created>
  <dc:creator>IT Department</dc:creator>
  <dc:description/>
  <dc:language>en-US</dc:language>
  <cp:lastModifiedBy>boss</cp:lastModifiedBy>
  <dcterms:modified xsi:type="dcterms:W3CDTF">2005-11-16T19:46:00Z</dcterms:modified>
  <cp:revision>123</cp:revision>
  <dc:subject/>
  <dc:title>Slide 1</dc:title>
</cp:coreProperties>
</file>