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8558-7D0C-48F0-8349-D9C8FF8C9B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09600" y="324000"/>
            <a:ext cx="4799160" cy="3598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65000" y="4067280"/>
            <a:ext cx="54864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Левада-Центр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коллектив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ециалистов, образованный в декабре 1987 под именем «ВЦИОМ» (Всероссийский центр изучения общественного мнения) – первый в России Центр, проводящий массовые опросы населения страны по репрезентативным выборк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стоянием компании ста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коллекти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трудников, формировавшийся на протяжении более 15 лет (1987-2004) и  получивший  международное признание и уваж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вгусте 2003 Министерство имущественных отношений РФ  приняло решение о преобразовании ФГУП ВЦИОМ в ОАО «Всероссийский центр изучения общественного мнения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се сотрудники ВЦИОМ в полном составе уволились из вновь образованного ОАО «Всероссийский центр изучения общественного мнения» и поступили на работу в Аналитическую службу «ВЦИОМ» (ВЦИОМ-А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иректором которой стал профессор Ю.А. Левада (бывший руководитель ФГУП ВЦИОМ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феврале 2004 года было принято решение о переименовании ВЦИОМ-А в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Аналитический Центр Юрия Левады (Левада-Центр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Левада-Цент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родолжает исследовательскую деятельность (политические, экономические, социальные, маркетинговые исследования), применяя накопленный опыт и сохраняя традиции. </a:t>
            </a:r>
            <a:r>
              <a:rPr b="1" lang="en-US" sz="1200" spc="-1" strike="noStrike">
                <a:solidFill>
                  <a:srgbClr val="003366"/>
                </a:solidFill>
                <a:latin typeface="Times New Roman"/>
              </a:rPr>
              <a:t>Левада-Цент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здает журнал «Вестник общественного мнения», в котором представлены аналитические статьи ведущих сотрудников центра, а также других специалистов в области социологии, экономики, полит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4591-183A-4689-9DE3-67C51510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6CC4-380D-4FB8-9933-B8147E45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3D74-380A-474E-8750-55DC24B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9363-DD83-4A1A-98E7-2E53CFCE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C49C-D88A-4AEF-8A66-1974BB55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C0C-9D1D-4949-9FD0-F7A4F70C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E005-F551-4A49-ABCE-6301DE84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5BD-102C-4201-8393-7069E5E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D848-CA31-400C-AD89-D12B32C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D113-14F8-4B03-ADC6-DC450FA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8E3-58C8-47A6-84E7-6870B16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2219-852D-4CCF-9624-F3B760E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632B-0079-4B06-9E4F-90A1197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79E3-4FC8-4BE8-88D0-DEE67DA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08EB-B79B-4703-BAC7-C983142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027A-EA78-4F81-A1C0-2A21FD0C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99D-3411-40A6-80FB-FB2E35CB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4B0D-C6A2-4459-AF99-A2394D2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568D-A3FB-4469-9C5A-BFE979D0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6F794-5779-4FC5-9209-E4E9456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EFD5-0505-4D45-AAAD-04400551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F014-6EEA-4084-8989-5408DC1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1FA5-EF3B-4706-A6AB-1FE18CC8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5DD3-6AA4-4013-9B18-F086317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2C36-2EC3-4108-9E91-CC248D3E90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11F-A516-45C9-AC1E-AEF860C05D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4651200"/>
            <a:ext cx="3600360" cy="2206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0"/>
            <a:ext cx="475308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0" y="3573360"/>
            <a:ext cx="5148360" cy="273528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6720" y="549360"/>
            <a:ext cx="4067280" cy="3017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5148360" y="404280"/>
            <a:ext cx="3995640" cy="316872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8920" y="3443400"/>
            <a:ext cx="3745080" cy="3414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5148360" y="404280"/>
            <a:ext cx="3995640" cy="3168720"/>
          </a:xfrm>
          <a:prstGeom prst="rect">
            <a:avLst/>
          </a:prstGeom>
          <a:solidFill>
            <a:srgbClr val="00339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21409800">
            <a:off x="0" y="4525920"/>
            <a:ext cx="4181400" cy="2648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8427800">
            <a:off x="601200" y="852840"/>
            <a:ext cx="2879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0" y="3212280"/>
            <a:ext cx="5148360" cy="360360"/>
          </a:xfrm>
          <a:prstGeom prst="rect">
            <a:avLst/>
          </a:prstGeom>
          <a:solidFill>
            <a:srgbClr val="00339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213000"/>
            <a:ext cx="8748720" cy="1728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33440" y="4208040"/>
            <a:ext cx="69120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003399"/>
                </a:solidFill>
                <a:latin typeface="Garamond"/>
              </a:rPr>
              <a:t>От мнений к пониманию</a:t>
            </a: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26920" y="3324600"/>
            <a:ext cx="8317080" cy="1033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263760"/>
            <a:ext cx="8317080" cy="69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55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rcRect l="12813" t="0" r="0" b="0"/>
          <a:stretch/>
        </p:blipFill>
        <p:spPr>
          <a:xfrm>
            <a:off x="0" y="0"/>
            <a:ext cx="2700360" cy="1919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76360" y="189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0" y="0"/>
            <a:ext cx="326880" cy="6858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0" y="0"/>
            <a:ext cx="179280" cy="6858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9280" y="3067920"/>
            <a:ext cx="4969080" cy="144360"/>
          </a:xfrm>
          <a:prstGeom prst="rect">
            <a:avLst/>
          </a:prstGeom>
          <a:solidFill>
            <a:srgbClr val="003399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" y="-720"/>
            <a:ext cx="504720" cy="3213000"/>
          </a:xfrm>
          <a:prstGeom prst="rect">
            <a:avLst/>
          </a:prstGeom>
          <a:solidFill>
            <a:srgbClr val="003399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17560" y="4117680"/>
            <a:ext cx="8317080" cy="10296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7560" y="4056120"/>
            <a:ext cx="8317080" cy="69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9360" y="4148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16120" y="4210560"/>
            <a:ext cx="8316720" cy="1033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120" y="4149720"/>
            <a:ext cx="8316720" cy="6984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1160" y="4241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781280" y="476280"/>
            <a:ext cx="2286000" cy="2303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0"/>
            <a:ext cx="576360" cy="3068640"/>
          </a:xfrm>
          <a:prstGeom prst="rect">
            <a:avLst/>
          </a:prstGeom>
          <a:solidFill>
            <a:srgbClr val="0033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32200" y="0"/>
            <a:ext cx="416160" cy="3068640"/>
          </a:xfrm>
          <a:prstGeom prst="rect">
            <a:avLst/>
          </a:prstGeom>
          <a:solidFill>
            <a:srgbClr val="0033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8880" y="0"/>
            <a:ext cx="177840" cy="3068640"/>
          </a:xfrm>
          <a:prstGeom prst="rect">
            <a:avLst/>
          </a:prstGeom>
          <a:solidFill>
            <a:srgbClr val="0033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86440" y="-27000"/>
            <a:ext cx="133200" cy="3068640"/>
          </a:xfrm>
          <a:prstGeom prst="rect">
            <a:avLst/>
          </a:prstGeom>
          <a:solidFill>
            <a:srgbClr val="003399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321300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99"/>
                </a:solidFill>
                <a:latin typeface="Garamond"/>
              </a:rPr>
              <a:t>ЛЕВАДА-ЦЕНТР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БЛАГОТВОРИТЕЛЬНОСТЬ В РОССИИ: ОСВЕДОМЛЕННОСТЬ НАСЕЛ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осприятие деятельности благотворительных организаций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% ответивших «согласен» на вопрос: «В какой мере Вы согласны с тем, что благотворительные организации…»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71640" y="1989000"/>
          <a:ext cx="72723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72723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Восприятие деятельности благотворительных организаций</a:t>
            </a:r>
            <a:br>
              <a:rPr sz="2000"/>
            </a:b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% ответивших «согласен» на вопрос: «В какой мере Вы согласны с тем, что благотворительные организации…»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16000" y="1773360"/>
          <a:ext cx="6840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  <a:ea typeface="Times New Roman"/>
              </a:rPr>
              <a:t>Социальные сферы, в которых деятельность благотворительных организаций может быть успешной*)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52360" y="1600200"/>
          <a:ext cx="68374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600200"/>
                    <a:ext cx="6837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  <a:ea typeface="Times New Roman"/>
              </a:rPr>
              <a:t>Распределение ответов на вопрос « Может ли деятельность благотворительных организаций существенно улучшить….»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752480"/>
          <a:ext cx="74674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467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  <a:ea typeface="Times New Roman"/>
              </a:rPr>
              <a:t>Распределение ответов на вопрос « Может ли деятельность благотворительных организаций существенно улучшить….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76520"/>
          <a:ext cx="78487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  <a:ea typeface="Times New Roman"/>
              </a:rPr>
              <a:t>Представления респондентов о наиболее эффективных формах благотворительной деятельности (в % к числу опрошенных,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  <a:ea typeface="Times New Roman"/>
              </a:rPr>
              <a:t>N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  <a:ea typeface="Times New Roman"/>
              </a:rPr>
              <a:t>=1002)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1960" y="1604880"/>
          <a:ext cx="7478640" cy="45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04880"/>
                    <a:ext cx="747864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3:11:52Z</dcterms:created>
  <dc:creator>zhukova</dc:creator>
  <dc:description/>
  <dc:language>en-US</dc:language>
  <cp:lastModifiedBy>User</cp:lastModifiedBy>
  <dcterms:modified xsi:type="dcterms:W3CDTF">2006-11-23T14:01:20Z</dcterms:modified>
  <cp:revision>13</cp:revision>
  <dc:subject/>
  <dc:title>Социальные сферы, в которых деятельность благотворительных организаций может быть успешной*) </dc:title>
</cp:coreProperties>
</file>