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7217-7ECB-418A-8FF2-10569E3E09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сурсы – финансовые, человеческие, сетевые – партнерский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та и открытость находят свое выражение, в частности, в практике обратной связи, которую мы регулярно даем грантополучателям. Хотелось бы и получать ее – с той же регулярностью, однако это бывает не просто. Однако, мы получаем косвенную обратную связь из других источников и от совета директоров. Обратная связь нам – часто бывает противоположна по значению – от «какой кошмар» до – «наконец-то мы понял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ерминах НКО и дон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крытая область – информация, которую НКО обычно скрывает, то есть – это область неудач и слабых сторон. Мы всегда говорим, что хотим минимизировать скрытую область, так как рассматриваем нашу деятельность как инвестиции, а они эффективны только тогда, когда мы обладаем всей полнотой информации об НКО. Только тогда мы можем наиболее эффективно поддержать конкретную организ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рассказала Вам как проходит процесс отбора и работы с грантополучателями. Теперь, подводя итог вышесказанному – я хотела бы остановиться на основных характеристиках эффективного менедджмента с точки зрения Гагаринского фонда, то есть на том. Что мы считаем наиболее важным в нашем процессе управления собственной де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очки зрения Гагаринского Фонда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онора – конечный продукт – это осуществленные социальные результаты и успешность финансируемой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КО – конечный продукт – это удовлетворенный получатель услуги, социальный 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сылки на донорскую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ный пример. Пример представительств иностранных организаций – критерии и цели – спущены сверху. Менеджмент вынужден выполнять то, что сделал кто-то другой, в другой культуре. Поэтому уровень ответственности и уровнень вовлеченности и мотивации – может быть не высок, что влияет на эффективность всей организации. Важно ощущение выполняемого дела – как своего, важного, соответствующего ценностям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менеджер – это ответственный менеджер. Ответственность связана с уровнем контроля, так как повышенный уровень контроля снижает мотивацию и ответственность сотрудника/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слайды двойной направленности – позиция действует как при работе с клиентами, так и при внутренней работе Фонда. Одна из характеристик процесса работы фонда к которой мы стремимся – цельность. Ответственность – НКО, уровень контроля – донор. Можно применить и к себе – пример из взаимодействия с советом дире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подход – донор ГФ – групповое принятие решений затратно, но имеет смысл в стратегической персп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же самое относится к нашим грантополучателям – мы финансируем зарплаты, проекты по орг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держка гражданских инициатив и есть развитие социальной и личной ответ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E04-F3A9-4829-B287-4AEF43EA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B9A-80F8-4E34-AA97-3D3397C6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9CD-5258-4038-8EC8-2F241251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443-0ED5-4507-BB0A-D2CCCD7B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CF83-DC9A-48E8-B82A-398A2147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5BAE-6540-47FE-B81A-81F6DACF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7D1C-C512-4BC5-A6ED-6635A2F7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2C2F-C34C-4C2F-A74E-B9201185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D627-2EAD-40E3-8926-6B0F4675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AF99-95AF-4C53-87D4-E27BF0B4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62A5-29E1-45F1-B0E3-D8D642A4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9A1-EA03-4B61-BBD9-7B378FBC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8E3F-2D2A-455A-9AD0-7F0BA425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F382-7F19-4662-BFCB-353F59AE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0FCA-3CCB-4400-8A95-71092808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D626-BBD4-458C-9103-1DA5CACA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D526-775B-4245-9C7F-566D8585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2CA-7181-4B34-BD06-938D015F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15E-EB80-453F-8F06-E8868261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319-4709-4D98-B6E1-F44AD237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C07-A4B5-458E-BCBE-BD2FBA24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75D-DC9F-471E-8B8B-A14C01D8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D89-40E2-45C6-91B2-E39C3BE2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DDE-7B3D-4B30-96AA-86B9DCF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70B5-3794-49FC-8720-29BC6BA9E9A1}" type="datetime">
              <a:rPr b="0" lang="ru-RU" sz="1200" spc="-1" strike="noStrike">
                <a:solidFill>
                  <a:srgbClr val="eaeaea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4243-2E0C-43A5-BD74-0228AB63A5B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446F-41CB-41DC-AB0C-F0FAA125AE8B}" type="datetime">
              <a:rPr b="0" lang="ru-RU" sz="1200" spc="-1" strike="noStrike">
                <a:solidFill>
                  <a:srgbClr val="eaeaea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27ED-3213-46F9-BF44-DE53842EC7E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Донорство как организованный процесс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Конференция Форума Доноров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«Российская благотворительность на пути к эффективности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Москва, 23 ноября 2006 год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Гагаринский Фонд,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Благотворительный фонд развития человеческого потенциал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тупени Отбо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149720"/>
            <a:ext cx="266688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Первичная заявка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- как внутренняя работа Фон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971800"/>
            <a:ext cx="266688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Круглые столы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как групповая работа Фонда с НКО сообществ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1752480"/>
            <a:ext cx="2819520" cy="1922760"/>
          </a:xfrm>
          <a:prstGeom prst="rect">
            <a:avLst/>
          </a:prstGeom>
          <a:solidFill>
            <a:srgbClr val="ff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Основная заявка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и визиты - как совместная работа с потенциальным грантополучателе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DFE-364B-4DF3-AC87-97E0A732B2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сновная заяв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1047600"/>
            <a:ext cx="7210440" cy="5251680"/>
            <a:chOff x="1447920" y="1047600"/>
            <a:chExt cx="7210440" cy="5251680"/>
          </a:xfrm>
        </p:grpSpPr>
        <p:grpSp>
          <p:nvGrpSpPr>
            <p:cNvPr id="159" name=""/>
            <p:cNvGrpSpPr/>
            <p:nvPr/>
          </p:nvGrpSpPr>
          <p:grpSpPr>
            <a:xfrm>
              <a:off x="3290040" y="1047600"/>
              <a:ext cx="5368320" cy="4032360"/>
              <a:chOff x="3290040" y="1047600"/>
              <a:chExt cx="5368320" cy="4032360"/>
            </a:xfrm>
          </p:grpSpPr>
          <p:sp>
            <p:nvSpPr>
              <p:cNvPr id="160" name=""/>
              <p:cNvSpPr/>
              <p:nvPr/>
            </p:nvSpPr>
            <p:spPr>
              <a:xfrm rot="1670400">
                <a:off x="3733560" y="1599840"/>
                <a:ext cx="3022560" cy="2649600"/>
              </a:xfrm>
              <a:prstGeom prst="ellipse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afcfa"/>
                  </a:gs>
                </a:gsLst>
                <a:lin ang="5400000"/>
              </a:gra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1752480"/>
                <a:ext cx="3095640" cy="3327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1447920" y="4495680"/>
              <a:ext cx="1677960" cy="180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FA0-A425-4783-A063-B2575BAD2E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итерии отбора организаци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aeaea"/>
                </a:solidFill>
                <a:latin typeface="Verdana"/>
              </a:rPr>
              <a:t>Стратегический подход</a:t>
            </a:r>
            <a:endParaRPr b="0" lang="en-US" sz="33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aeaea"/>
                </a:solidFill>
                <a:latin typeface="Verdana"/>
              </a:rPr>
              <a:t>Наличие организации</a:t>
            </a:r>
            <a:endParaRPr b="0" lang="en-US" sz="33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aeaea"/>
                </a:solidFill>
                <a:latin typeface="Verdana"/>
              </a:rPr>
              <a:t>Наличие ресурсов для выполнения проектов</a:t>
            </a:r>
            <a:endParaRPr b="0" lang="en-US" sz="33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aeaea"/>
                </a:solidFill>
                <a:latin typeface="Verdana"/>
              </a:rPr>
              <a:t>Социальный результат</a:t>
            </a:r>
            <a:endParaRPr b="0" lang="en-US" sz="33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E31-24B9-4AD1-BC7C-F21AD8D336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аши принципы общения с грантополучателям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Verdana"/>
              </a:rPr>
              <a:t>Построение взаимоотношений партнерства и взаимоуважения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Verdana"/>
              </a:rPr>
              <a:t>Понимание взаимных целей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Verdana"/>
              </a:rPr>
              <a:t>Простота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Verdana"/>
              </a:rPr>
              <a:t>Конкретность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Verdana"/>
              </a:rPr>
              <a:t>Разделение областей ответственности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Verdana"/>
              </a:rPr>
              <a:t>Прямота, открытость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812-D664-404F-ADF3-F02FC5E9F0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братная Связ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2276640"/>
            <a:ext cx="4647960" cy="2971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2209680"/>
            <a:ext cx="0" cy="297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657600"/>
            <a:ext cx="4647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1828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Я  НЕ ЗНАЮ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Я ЗНАЮ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666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ДРУГИЕ ЗНАЮТ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ДРУГИЕ НЕ ЗНАЮТ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39625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Скрытая обла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6067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Открытая обла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26067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Слепая обла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Неизвестная обла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11430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О б р а т н а я   с в я з 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133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Раскрыт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600200"/>
            <a:ext cx="480060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2133720"/>
            <a:ext cx="0" cy="312408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57340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кна Джохар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CCB-61E0-4953-836B-9DF551A014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итерии отбора проект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Важность конкретного проекта для организации на данной ступени ее развития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Четкая формулировка собственных потребностей организации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Наличие запланированных действий, направленных на оценку результатов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Логическое соответствие между программой и бюджетом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Бизнес-подход в проекте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53F-88FB-4AF4-9C83-4FC7072124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сле подписания контракт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733920"/>
            <a:ext cx="1828800" cy="1904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4191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Вводный семина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2819520"/>
            <a:ext cx="2286000" cy="220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35268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Отчетность - мониторинг работы НК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133720"/>
            <a:ext cx="2286000" cy="2209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Финальный отчет - оценка результа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1752480"/>
            <a:ext cx="1218960" cy="1219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396252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981080" y="5029200"/>
            <a:ext cx="1295640" cy="457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419720" y="4343400"/>
            <a:ext cx="1218960" cy="3808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705720" y="3657600"/>
            <a:ext cx="1066680" cy="3808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772400" y="2971440"/>
            <a:ext cx="0" cy="6858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3657600"/>
            <a:ext cx="457200" cy="4572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32720" y="450864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Предложение дальнейшего сотрудниче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568-285C-4D5C-867D-9DDD240F86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Эффективный менеджмен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Цельность – соответствие слов делу и подходы, общие для всех (и для других и для себя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нвестирование в человеческий потенциал, который и является ключевым фактором успеха организаций 3-го сектор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аксимальная вовлеченность всех заинтересованных сторон в осуществление деятельности по реализации общих цел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B2B-169D-4384-AB0C-DCB7A62292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Что является результатом эффективного менеджмента?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оздание ценного конечного продукта при условии стабильности и устойчивости деятельности организа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онятие эффективности организац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56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Традиционный подход –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Результаты : затрат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оциальный подход –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Ценный конечный продук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тратегический подход –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Стабильность, устойчивость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деятельно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ндивидуальный подход –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Собственные критерии донор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EE3-E9C1-414E-B742-4B93B3DE5D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араметры эффективност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Соответствие стандартам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степень соответствия результатов потребностям клиент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Соответствие целям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как взаимодействие участников позволяет обеспечить достижение цел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Время производственного цикл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казатель чувствительности, производительности и стоимост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Стоимость производственного цикл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как расходуются ресурсы в процессе деятельност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DBC-870F-4795-8BBA-2A03ABDF51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Менеджмент и эффективность организац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Дополнительные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затраты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– НО источник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повышения эффективно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Менеджерские ресурсы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повышения эффективности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 разработка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внутренних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процедур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мотивация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сотрудников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стратегический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фокус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 оптимизация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структуры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 развитие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ответственности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менеджмен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956-3C2D-4507-B46F-E6182FE7E3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1413000"/>
            <a:ext cx="676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Чем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самостоятельнее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организация в своих действиях и при принятии решений, тем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больший положительный эффект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имеет оптимизация менеджмента для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эффективности работы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всей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организац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B3A-EE1F-4992-BF0E-3B41C7B02D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онтроль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Ответствен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371600"/>
            <a:ext cx="7859880" cy="4362480"/>
          </a:xfrm>
          <a:prstGeom prst="rect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628640"/>
            <a:ext cx="2286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Arial"/>
              </a:rPr>
              <a:t>ОТВЕТСТВЕННОСТ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1371600"/>
            <a:ext cx="0" cy="43624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3500280"/>
            <a:ext cx="78487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4290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197000"/>
            <a:ext cx="304920" cy="304920"/>
          </a:xfrm>
          <a:prstGeom prst="plus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5877000"/>
            <a:ext cx="304920" cy="152280"/>
          </a:xfrm>
          <a:prstGeom prst="rect">
            <a:avLst/>
          </a:prstGeom>
          <a:solidFill>
            <a:srgbClr val="1b32d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661000"/>
            <a:ext cx="304920" cy="152280"/>
          </a:xfrm>
          <a:prstGeom prst="rect">
            <a:avLst/>
          </a:prstGeom>
          <a:solidFill>
            <a:srgbClr val="33cc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292720" y="4437000"/>
            <a:ext cx="30481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своение  ресурс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 rot="21330600">
            <a:off x="5076720" y="1916280"/>
            <a:ext cx="2989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Демотив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63640" y="4508640"/>
            <a:ext cx="1828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БОЛОТ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42920" y="1844640"/>
            <a:ext cx="3241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ффективность и 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595008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b32dd"/>
                </a:solidFill>
                <a:latin typeface="Arial"/>
              </a:rPr>
              <a:t>У  Р  О  В  Е  Н  Ь    К  О  Н  Т  Р  О  Л  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32720" y="5877000"/>
            <a:ext cx="304920" cy="304560"/>
          </a:xfrm>
          <a:prstGeom prst="plus">
            <a:avLst>
              <a:gd name="adj" fmla="val 25000"/>
            </a:avLst>
          </a:prstGeom>
          <a:solidFill>
            <a:srgbClr val="1b32dd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72A-DE59-4116-B6A2-41632106C9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енчурная филантроп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нвестирование как подход к благотворительно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Фокус интереса донора – состояние и потенциал организа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одействие развитию финансируемой организации не только денежными пожертвованиями, но также обучением и консультирование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тратегический подход к административным затрата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37A-5738-4BDF-AB24-84E8B174D1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Базовая ценность Фон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оздание и укрепление отношений равенства и партнерства между грантодателями и грантополучателями, основанных на осознании общих разделяемых цел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9E9-7317-4C81-A7B9-9CEA027F37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тратегические цели Фон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Развитие филантропии и оптимизация имиджа некоммерческих организаций</a:t>
            </a:r>
            <a:br>
              <a:rPr sz="3000"/>
            </a:b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Развитие социальной и личной ответственности как характеристик гражданского общества</a:t>
            </a:r>
            <a:br>
              <a:rPr sz="3000"/>
            </a:b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Профессионализация третьего сектора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агаринский Фонд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576-28C3-46E6-B5A9-FAB7FEEB3F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09:04:46Z</dcterms:created>
  <dc:creator>alpha</dc:creator>
  <dc:description/>
  <dc:language>en-US</dc:language>
  <cp:lastModifiedBy>alpha</cp:lastModifiedBy>
  <dcterms:modified xsi:type="dcterms:W3CDTF">2006-11-22T14:44:59Z</dcterms:modified>
  <cp:revision>39</cp:revision>
  <dc:subject/>
  <dc:title>Донорство как организованный процесс</dc:title>
</cp:coreProperties>
</file>