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F2F0-11C3-466F-BC33-0F9FAB10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1DB3-2851-47B8-9D10-59E312EE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2229-63E0-44BC-9D56-7D87FE914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340E-EA88-4910-BC69-8797556A3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9B10-CC5B-4B1B-9E78-5694C3841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2906-F8A5-4DA5-BBDD-8762B6FF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5D65-B739-4D15-B43F-940017C1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8B15-720E-49E0-969E-081272B8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6E3A-3FCB-4C6E-A70C-B9B88C4D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7A8D-8840-461E-8669-5BA47B56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7209-1C6D-450D-A1BC-45885701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A4D1-861C-486B-8466-CAC7ABD3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9B27-683C-458D-B089-91A25C3E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F33B-4ED6-4C8C-9A32-BEA8181F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9C8F-656C-4960-AFDF-502B24D0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7D65-F254-4640-BFC7-5A386A45D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8BEF-41BC-45F3-AC47-A0DD1D58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820B-CBF1-4505-B719-91374718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5871-6C68-45E1-B697-4862D1C8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462C-4F29-4BAD-8878-03760F62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C08F-BBE2-4057-BA43-5F8B2F81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4DE0-5BCD-4FC6-8DE5-778A1AD3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299D-61CB-4617-977C-32E12E70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0A47-B525-4321-846B-9742E65D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DFDB-9A65-4565-8323-A99B869485F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600A-35C4-4C6A-8D64-1048D57E77C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Определение эффективности деятельности фонд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ис Кава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E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рум доноро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3 ноября 2006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Рекомендации на будуще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величение минимальных выпла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величение контроля со стороны правитель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вое направление в филантроп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нчурная филантроп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учно обоснованный менеджме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Определ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чество гран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меримость целей фон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щественное развит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влечение ресурсо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нды местного сообществ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Эффективность затра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чему эффективность затрат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определенная финансовая ситу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иление государственного контрол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астие представителей бизнеса в правлен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нчурная филантроп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вое направление для осмыс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Развал в показателях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дминистративный анали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казатели грантовой дея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казатели административной дея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отношение административными расходами и объемом грант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ценка воздействия деятельности фон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казатели грантовой деятельн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ходы на привлечение грантозаявите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ремя на организация проце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 получения до отбора заявок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ходы на отбор грантополучате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ценка экспертов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утреннее реш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учение грантополучате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крепление способност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казатели грантового процесс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ниторин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верка отчетов о дея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верка финансовых отче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ездки к грантополучателя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цедуры оспари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цедуры закрытия гран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инансов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граммн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Показатели административной деятельности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ходы на персона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ухгалтер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правление и контро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помогательный персона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ругие административные расхо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ерационные расхо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формационная поддерж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Соотношение административных расходов и объема грантов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й уровень приемлем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акторы, влияющие на решени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ем целевого капитал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ффективность влож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обходимый уровень внутреннего контро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руктура грантовых програм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труктура грантовых программ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личество гран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мма гран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должительность гран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06:52:26Z</dcterms:created>
  <dc:creator>chris</dc:creator>
  <dc:description/>
  <dc:language>en-US</dc:language>
  <cp:lastModifiedBy>Gennady Podolny</cp:lastModifiedBy>
  <dcterms:modified xsi:type="dcterms:W3CDTF">2006-11-23T08:18:28Z</dcterms:modified>
  <cp:revision>8</cp:revision>
  <dc:subject/>
  <dc:title>Defining and Measuring Foundation Effectiveness</dc:title>
</cp:coreProperties>
</file>