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C5F-CBF7-478B-9B51-FE229C39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0C3-63B6-4A80-BD5E-B19C6A61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09B-CDF1-46F8-9E35-D79469E9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804-B2BD-4E4E-95C1-64B67EB9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82A9-5DC5-4BA6-B22A-951DDA66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7073-06AC-4FB7-9C93-76CB24A1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789-5715-4D2F-8833-58D0333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DD23-388D-4120-833A-7D8565B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A653-A675-47C2-96B0-AD6D52C2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BF0-D3BA-4994-B8C5-798FC00F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CE75-ACC2-4A81-A90C-1CD93F1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8A4-33EA-4DEA-9C91-1A6F05CA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A1B2-04E6-4F1C-8668-0125CF1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3496-6A9D-48AB-A30F-F14C707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0294-A6C2-4C17-94C7-C9B839F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9823-D89E-4E6F-9127-5846E989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A32C-C873-42F6-9EA6-5EB8B029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CD9-0E04-483D-8801-5DE8D6B2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DF5-C05D-4268-B976-8CCD42F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219-C2A2-4CC8-A55E-FB0039BA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2D9-4BFD-4016-AE4D-3A2A018A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36B-E4D8-43DE-91BE-3E5F616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FC3-E095-4A05-808A-D01E04F6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FA1-C999-40F3-BCED-1966500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D479-9C5E-447D-89F0-565B078A9B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6253200"/>
          <a:ext cx="68580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253200"/>
                    <a:ext cx="68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717840" y="6521400"/>
            <a:ext cx="74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ноября 2006 г.  Четвертая ежегодная конференция </a:t>
            </a: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Форума Доноров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601120" y="6300720"/>
            <a:ext cx="54288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8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3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8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2B0-FE71-4917-942E-BB67A5A180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6253200"/>
          <a:ext cx="685800" cy="60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53200"/>
                    <a:ext cx="68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729360" y="642312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ноября 2006 г.  Четвертая ежегодная конференция </a:t>
            </a: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Форума Доноров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601120" y="6300720"/>
            <a:ext cx="542880" cy="557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zdarvinform.ru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34696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«Интернет-решение организации мониторинга и оценки комплексных межрегиональных программ в области здравоохранения» 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6253200"/>
          <a:ext cx="68580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53200"/>
                    <a:ext cx="68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26920" y="5013360"/>
            <a:ext cx="7772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Короткова Анна Владимировна </a:t>
            </a:r>
            <a:br>
              <a:rPr sz="32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Центр Мониторинга и оценки</a:t>
            </a:r>
            <a:br>
              <a:rPr sz="2800"/>
            </a:b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проектов и программ</a:t>
            </a:r>
            <a:br>
              <a:rPr sz="2800"/>
            </a:b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ФГУ «Центральный НИИ организации и информатизации здравоохранения Росздрава», Минздравсоцразвития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Определение приоритетов для новых проектов/программ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нтернет-приложение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аза данных о проводимых и законченных проектах/программах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ZdarvInform.ru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Анализ приоритетов развития системы здравоохра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Анализ «пересечения» установленных приоритетов и уже вложенных бюджетных и донорских средств – определение «пробелов» для новых вложений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4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14274" r="38073" b="3470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4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19523" r="38073" b="3470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Преимущества Интернет-решений информационного обеспечения управления и МиО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227664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лнота  представления и доступность результатов программы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-line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»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нформация о ходе выполнения программы – пользователям с различными уровнями доступа, включая донор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ониторинг и оценка программы – 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без временных запаздываний с оперативной обратной связью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Эффективность мониторинга и оценки программы определяется: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78200"/>
            <a:ext cx="812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Адекватностью плана МиО рабочему плану проекта/програм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Адекватностью индикаторов МиО целям и задачам проекта/програм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409"/>
                </a:solidFill>
                <a:latin typeface="Tahoma"/>
              </a:rPr>
              <a:t>Адекватностью информационного обеспечения выполнения плана Ми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Интернет-приложение –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Система управления и МиО программы 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2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1:14:13Z</dcterms:created>
  <dc:creator>1</dc:creator>
  <dc:description/>
  <dc:language>en-US</dc:language>
  <cp:lastModifiedBy>Korotkova</cp:lastModifiedBy>
  <dcterms:modified xsi:type="dcterms:W3CDTF">2006-10-25T08:53:12Z</dcterms:modified>
  <cp:revision>40</cp:revision>
  <dc:subject/>
  <dc:title>Интернет-портал  «Web-коммуникатор» для мониторинга и оценки проекта</dc:title>
</cp:coreProperties>
</file>