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5A5-149F-433E-B603-3BA671C9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8420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7760" y="3769200"/>
            <a:ext cx="8420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9A2-D542-44AB-91CE-8203280B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7760" y="376920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92720" y="376920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C5D-D1B2-4A5B-AA57-DC348FB6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25000" y="130824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71880" y="130824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7760" y="376920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25000" y="376920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71880" y="376920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559-1613-49E5-B48A-AEF164B9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8025-791C-4725-A69E-39C8342B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77760" y="1308240"/>
            <a:ext cx="8420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A3AC-8F44-4DE7-B650-BD28C157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8420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C3AD-D1FB-44E1-828F-E42CAA6A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6189-F9F9-455F-A44D-E3C5A2FD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BFE2-0A3A-4A5F-B409-F392A815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516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DF3A-8BAB-4A40-987A-E8C84B8D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7760" y="376920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B8A7-D4D1-43E8-A674-810222A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7760" y="1308240"/>
            <a:ext cx="8420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A64-C83F-4DC9-8BA1-4A6A48C1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92720" y="376920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A224-1156-47A1-B8BF-1C759E9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77760" y="3769200"/>
            <a:ext cx="8420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B025-8CB4-4216-8A15-1098A077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8420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77760" y="3769200"/>
            <a:ext cx="8420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4612-2AC0-470E-A4A6-EEE0D72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77760" y="376920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92720" y="376920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7735-1F6C-4A36-9C72-DD4739D0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25000" y="130824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71880" y="130824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77760" y="376920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25000" y="376920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71880" y="3769200"/>
            <a:ext cx="27111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26BC-35F2-40E5-B30F-F3230FDD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8420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4E2-D404-4457-A29F-16D276A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9A4-0181-46B4-8240-BC147FF4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A96-ECBA-419A-9C74-40CC25C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6516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285-9AE2-4590-943A-5BCADD7C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7760" y="376920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5EA-1A51-461E-87E7-CD0C1E98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92720" y="376920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73B-310E-4C47-AE0E-0A04621D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2720" y="1308240"/>
            <a:ext cx="41090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7760" y="3769200"/>
            <a:ext cx="8420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211-5224-4DDC-A222-AA4A7CE5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4720" y="1103400"/>
            <a:ext cx="9131400" cy="5297040"/>
            <a:chOff x="774720" y="1103400"/>
            <a:chExt cx="9131400" cy="5297040"/>
          </a:xfrm>
        </p:grpSpPr>
        <p:sp>
          <p:nvSpPr>
            <p:cNvPr id="1" name=""/>
            <p:cNvSpPr/>
            <p:nvPr/>
          </p:nvSpPr>
          <p:spPr>
            <a:xfrm>
              <a:off x="882720" y="1223280"/>
              <a:ext cx="9023400" cy="51771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74720" y="1103400"/>
              <a:ext cx="216000" cy="2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7760" y="1308240"/>
            <a:ext cx="8420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3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1349"/>
              </a:spcAft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13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13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13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1349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1349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78040" y="54100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07560" y="64771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8b8b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3315-E792-4B07-8E2F-92D322787DF9}" type="slidenum">
              <a:rPr b="0" lang="en-US" sz="1400" spc="-1" strike="noStrike">
                <a:solidFill>
                  <a:srgbClr val="b8b8b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219320"/>
            <a:ext cx="9906120" cy="0"/>
          </a:xfrm>
          <a:prstGeom prst="line">
            <a:avLst/>
          </a:prstGeom>
          <a:ln w="93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6240" y="0"/>
            <a:ext cx="0" cy="6858000"/>
          </a:xfrm>
          <a:prstGeom prst="line">
            <a:avLst/>
          </a:prstGeom>
          <a:ln w="93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437160"/>
            <a:ext cx="9906120" cy="0"/>
          </a:xfrm>
          <a:prstGeom prst="line">
            <a:avLst/>
          </a:prstGeom>
          <a:ln w="93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774720" y="11048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" name="Логотип%20РУСАЛ" descr=""/>
          <p:cNvPicPr/>
          <p:nvPr/>
        </p:nvPicPr>
        <p:blipFill>
          <a:blip r:embed="rId4"/>
          <a:stretch/>
        </p:blipFill>
        <p:spPr>
          <a:xfrm>
            <a:off x="8001000" y="152280"/>
            <a:ext cx="1647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877680" y="57150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19320"/>
            <a:ext cx="9906120" cy="0"/>
          </a:xfrm>
          <a:prstGeom prst="line">
            <a:avLst/>
          </a:prstGeom>
          <a:ln w="93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76240" y="0"/>
            <a:ext cx="0" cy="6858000"/>
          </a:xfrm>
          <a:prstGeom prst="line">
            <a:avLst/>
          </a:prstGeom>
          <a:ln w="93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7320" y="1117440"/>
            <a:ext cx="190440" cy="190800"/>
          </a:xfrm>
          <a:prstGeom prst="ellipse">
            <a:avLst/>
          </a:prstGeom>
          <a:solidFill>
            <a:srgbClr val="c9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37160"/>
            <a:ext cx="9906120" cy="0"/>
          </a:xfrm>
          <a:prstGeom prst="line">
            <a:avLst/>
          </a:prstGeom>
          <a:ln w="93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907560" y="64771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8b8b8"/>
                </a:solidFill>
                <a:latin typeface="65 Helvetica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8A9E-A328-47BF-ABC1-EA6CA8AA1023}" type="slidenum">
              <a:rPr b="0" lang="en-US" sz="1400" spc="-1" strike="noStrike">
                <a:solidFill>
                  <a:srgbClr val="b8b8b8"/>
                </a:solidFill>
                <a:latin typeface="65 Helvetica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Логотип%20РУСАЛ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164772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90128"/>
              </a:buClr>
              <a:buSzPct val="120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90128"/>
              </a:buClr>
              <a:buSzPct val="120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90128"/>
              </a:buClr>
              <a:buSzPct val="120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991720" cy="5257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2361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ирование благотворительной деятельности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2285640"/>
            <a:ext cx="8407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лана Ивч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джер по благотворительности,  РУС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ум Доно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, 18 ноября 200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74720" y="11048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96FB-9109-4841-BD89-6FA25DA745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и проекты 2004 – 200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7400" y="1308240"/>
            <a:ext cx="41338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00600" y="1308240"/>
            <a:ext cx="49528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90128"/>
                </a:solidFill>
                <a:uFillTx/>
                <a:latin typeface="Arial"/>
              </a:rPr>
              <a:t>2005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обще региональные программы (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о классных проектов (второй и третий туры конкурса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Здоровая молодежь – основа процветания регио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Центры социальной помощи (Саяногорск, Новокузнецк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месте в завтрашний день (Братск плюс 1-2  города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90128"/>
                </a:solidFill>
                <a:latin typeface="Arial"/>
              </a:rPr>
              <a:t>60 лет Победы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6 Проекто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ша помощь Беслан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етский экологический отряд (Красноярск, Николаев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етские сердца // операци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90128"/>
                </a:solidFill>
                <a:latin typeface="Arial"/>
              </a:rPr>
              <a:t>Пожертвования сотрудников (пилот - Москва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90128"/>
                </a:solidFill>
                <a:latin typeface="Arial"/>
              </a:rPr>
              <a:t>Конкурс проектов, инициированных сотрудниками (пилот - Москва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90128"/>
                </a:solidFill>
                <a:latin typeface="Arial"/>
              </a:rPr>
              <a:t>Фонд помощи сотрудника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95280"/>
            <a:ext cx="36576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 u="sng">
                <a:solidFill>
                  <a:srgbClr val="c90128"/>
                </a:solidFill>
                <a:uFillTx/>
                <a:latin typeface="Arial"/>
              </a:rPr>
              <a:t>200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ще региональные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классных проектов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Здоровая молодежь – основа процветания региона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проек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ша помощь Беслан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ентр социальной помощи в г. Красноярс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Вместе в завтрашний день!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тский экологический отря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тские серд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ентр социальных программ в г. Николае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1CD-AF80-4116-8415-F3FA4263852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и  совпадения интересов бизнеса и общества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3567200">
            <a:off x="2184840" y="2157480"/>
            <a:ext cx="4095720" cy="4046760"/>
          </a:xfrm>
          <a:prstGeom prst="triangle">
            <a:avLst>
              <a:gd name="adj" fmla="val 50000"/>
            </a:avLst>
          </a:prstGeom>
          <a:solidFill>
            <a:srgbClr val="b8b8b8"/>
          </a:solidFill>
          <a:ln w="0">
            <a:solidFill>
              <a:srgbClr val="ddddd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5000" y="5391000"/>
            <a:ext cx="171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й деловой интере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сновная  деятельность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67652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0128"/>
                </a:solidFill>
                <a:latin typeface="Arial"/>
              </a:rPr>
              <a:t>Социальная вы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57400" y="1066680"/>
            <a:ext cx="6067440" cy="4896000"/>
            <a:chOff x="2057400" y="1066680"/>
            <a:chExt cx="6067440" cy="4896000"/>
          </a:xfrm>
        </p:grpSpPr>
        <p:sp>
          <p:nvSpPr>
            <p:cNvPr id="104" name=""/>
            <p:cNvSpPr/>
            <p:nvPr/>
          </p:nvSpPr>
          <p:spPr>
            <a:xfrm>
              <a:off x="2786040" y="5425920"/>
              <a:ext cx="4353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786040" y="1402920"/>
              <a:ext cx="1440" cy="401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842920" y="1253160"/>
              <a:ext cx="1291320" cy="41634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800440" y="4236840"/>
              <a:ext cx="4576680" cy="1238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927520" y="2791080"/>
              <a:ext cx="2727000" cy="2603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0040" y="1555920"/>
              <a:ext cx="14763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орпоративный фонд, Корпоративные грантовые программы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00880" y="2774880"/>
              <a:ext cx="16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Спонсорство</a:t>
              </a:r>
              <a:r>
                <a:rPr b="0" i="1" lang="ru-RU" sz="12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76760" y="3460680"/>
              <a:ext cx="2139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90128"/>
                  </a:solidFill>
                  <a:latin typeface="Arial"/>
                </a:rPr>
                <a:t>Сочетание социальной и экономической выгод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7400" y="1066680"/>
              <a:ext cx="199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истая благотворитель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59200" y="5594400"/>
              <a:ext cx="247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90128"/>
                  </a:solidFill>
                  <a:latin typeface="Arial"/>
                </a:rPr>
                <a:t>Экономическая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524720" y="3995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граммы социаль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нвест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5360" y="55278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90128"/>
                </a:solidFill>
                <a:latin typeface="Arial"/>
              </a:rPr>
              <a:t>вы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5943600"/>
            <a:ext cx="6224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По материалам семинара «Корпоративные социальные инвестиции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ратегия и менеджмент» Фонд «Евразия», Москва, 8-9 июл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004г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50E-93C5-4F20-9D8E-2158976CFC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подход к планированию благотворительной деяте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36878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стремимся к тому, чтобы программы социального инвестирования  РУСАЛа способствовали процветанию стран и регионов, в которых ведется производственная деятельность компании. Компания  верит, что, развивая активную жизненную позицию населения  регионов, она способствует реализации их потенциала и созданию стабильной социальной сред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029200" y="1447920"/>
            <a:ext cx="4419360" cy="4494600"/>
            <a:chOff x="5029200" y="1447920"/>
            <a:chExt cx="4419360" cy="4494600"/>
          </a:xfrm>
        </p:grpSpPr>
        <p:grpSp>
          <p:nvGrpSpPr>
            <p:cNvPr id="120" name=""/>
            <p:cNvGrpSpPr/>
            <p:nvPr/>
          </p:nvGrpSpPr>
          <p:grpSpPr>
            <a:xfrm>
              <a:off x="5029200" y="1447920"/>
              <a:ext cx="4334760" cy="4494600"/>
              <a:chOff x="5029200" y="1447920"/>
              <a:chExt cx="4334760" cy="4494600"/>
            </a:xfrm>
          </p:grpSpPr>
          <p:sp>
            <p:nvSpPr>
              <p:cNvPr id="121" name=""/>
              <p:cNvSpPr/>
              <p:nvPr/>
            </p:nvSpPr>
            <p:spPr>
              <a:xfrm>
                <a:off x="5029200" y="1447920"/>
                <a:ext cx="2601000" cy="1797480"/>
              </a:xfrm>
              <a:prstGeom prst="rightArrowCallout">
                <a:avLst>
                  <a:gd name="adj1" fmla="val 25002"/>
                  <a:gd name="adj2" fmla="val 25000"/>
                  <a:gd name="adj3" fmla="val 24117"/>
                  <a:gd name="adj4" fmla="val 6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30200" y="1447920"/>
                <a:ext cx="1733760" cy="2697120"/>
              </a:xfrm>
              <a:prstGeom prst="downArrowCallout">
                <a:avLst>
                  <a:gd name="adj1" fmla="val 25002"/>
                  <a:gd name="adj2" fmla="val 25000"/>
                  <a:gd name="adj3" fmla="val 25927"/>
                  <a:gd name="adj4" fmla="val 6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62960" y="4145040"/>
                <a:ext cx="2601000" cy="1797480"/>
              </a:xfrm>
              <a:prstGeom prst="leftArrowCallout">
                <a:avLst>
                  <a:gd name="adj1" fmla="val 25002"/>
                  <a:gd name="adj2" fmla="val 25000"/>
                  <a:gd name="adj3" fmla="val 24117"/>
                  <a:gd name="adj4" fmla="val 6667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29200" y="3245400"/>
                <a:ext cx="1733760" cy="2697120"/>
              </a:xfrm>
              <a:prstGeom prst="upArrowCallout">
                <a:avLst>
                  <a:gd name="adj1" fmla="val 25002"/>
                  <a:gd name="adj2" fmla="val 25000"/>
                  <a:gd name="adj3" fmla="val 25927"/>
                  <a:gd name="adj4" fmla="val 6666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112360" y="1447920"/>
              <a:ext cx="1751040" cy="19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ценка потребностей и  мнения  населения, сотрудников и др. к компан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14000" y="1447920"/>
              <a:ext cx="1751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I.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азработка стратегии (цели и задачи) благотворит. деят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4191120"/>
              <a:ext cx="17510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V.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оведение мониторинга и оценки отдельных проектов и программ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7520" y="4191120"/>
              <a:ext cx="17510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II.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етальная разработка и реализация благотвори-тельных проектов и програм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C67-4650-40BD-8386-A97D844556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51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а потребностей населения*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и задачи  200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7760" y="1307880"/>
            <a:ext cx="3975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потребностей населения*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0" lang="ru-RU" sz="1600" spc="-1" strike="noStrike">
                <a:solidFill>
                  <a:srgbClr val="c90128"/>
                </a:solidFill>
                <a:latin typeface="Arial"/>
              </a:rPr>
              <a:t>60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селения при определении набора характеристик для идеального образа крупного бизнеса выделяют социальную ответствен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«повышенной чувствительности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ети и молодеж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циально незащищенные слои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острые проблем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тсутствие условий для развития детского и молодеж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я и досуг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тсутствие механизмов защиты и поддержки малоиму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По результатам исследования Института Социологии РАН, 200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9200" y="1308240"/>
            <a:ext cx="45720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овать решению наиболее острых проблем реги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зменить в позитивную сторону общественное восприятие социальной политики РУСА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еличить число людей в регионе, позитивно относящихся к РУСАЛу и его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дач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нить стратегический подход к реализации благотворительной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ициировать проекты, которые бы им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широкий социальный резонанс и ПР-эффект за счет оказания реальной  (доступной, заметной и наглядной) помощи населен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овали вовлечению в благотворительную деятельность представителей  властей всех уровней, лидеров общественного мнения, молодежные и детские  объединения на предприятиях РУС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710-BC93-4948-A2F5-19DFF5E15C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творительные программы  и проек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ы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73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 общерегиональные целевые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классных проект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Здоровая молодеж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(строительство спортивных площад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ша помощь Бесла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ентр социальной помощи в г. Краснояр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Вместе в завтрашний день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тский экологический отря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тские серд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ентр социальных программ в г. Никола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49532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опровожд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ообщений  в СМ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янв.-окт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66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ролик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4 щитов наружной рекла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8 пресс-конференц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октября 200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. страничка «Благотворительность» в Интра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сентября 200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. стенгазета «Алые паруса», посвященная благотворительным проект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ие сотрудн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5 детей сотрудников в Детских Комитет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488 277 руб. и 53 019 дол частных пожертвований - помощь Беслан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9 чел. (Москва)– сбор веще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523-DC6E-4137-A1B8-3F979DFCD8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679400" y="2057400"/>
          <a:ext cx="7842600" cy="40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2057400"/>
                    <a:ext cx="78426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136160" y="1447920"/>
            <a:ext cx="681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иболее интересные для сотруднико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АЛ - УК благотворительные проекты Компании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2004 (продолжение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88680" y="6095880"/>
            <a:ext cx="8073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По результатам исследования отношения сотрудников РУСАЛ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К к благотворительности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F,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BAE-26AD-42F5-80A0-A36AD09B8C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риятие  экспертами и населением социальной ответственности бизнеса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7400" y="1308240"/>
            <a:ext cx="41338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большинстве случае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ерты характеризу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екты РУСАЛа положительно, полагая, что тем самым компания не только помогает населению, но и способствует оздоровлению психологического климата в реги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грамма помощи школам «Сто классных проект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 эксперты сходятся в том, что это – удачная программа и хотели бы видеть её продолжение. Пожелание: программа должна быть менее эксклюзив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 социальной помощ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о мнению экспертов подобный проект может быть удачным начинанием. Необходимо, чтобы таких центров было несколько и чтобы они были приближены к неблагополучным районам гор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оительство спортивных площад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анный проект получил наибольшую известность в силу его широкого охв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3000">
            <a:off x="5045400" y="2802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ание потреб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090840" y="2166480"/>
            <a:ext cx="3667320" cy="3743640"/>
            <a:chOff x="6090840" y="2166480"/>
            <a:chExt cx="3667320" cy="3743640"/>
          </a:xfrm>
        </p:grpSpPr>
        <p:sp>
          <p:nvSpPr>
            <p:cNvPr id="144" name="_s264201"/>
            <p:cNvSpPr/>
            <p:nvPr/>
          </p:nvSpPr>
          <p:spPr>
            <a:xfrm flipV="1">
              <a:off x="7312680" y="2166480"/>
              <a:ext cx="1223640" cy="1247760"/>
            </a:xfrm>
            <a:custGeom>
              <a:avLst/>
              <a:gdLst>
                <a:gd name="textAreaLeft" fmla="*/ 438840 w 1223640"/>
                <a:gd name="textAreaRight" fmla="*/ 784800 w 1223640"/>
                <a:gd name="textAreaTop" fmla="*/ 447480 h 1247760"/>
                <a:gd name="textAreaBottom" fmla="*/ 80028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0c0c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частвовать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 жизни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общест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264202"/>
            <p:cNvSpPr/>
            <p:nvPr/>
          </p:nvSpPr>
          <p:spPr>
            <a:xfrm flipV="1">
              <a:off x="6702480" y="3414240"/>
              <a:ext cx="2444400" cy="1247760"/>
            </a:xfrm>
            <a:custGeom>
              <a:avLst/>
              <a:gdLst>
                <a:gd name="textAreaLeft" fmla="*/ 537480 w 2444400"/>
                <a:gd name="textAreaRight" fmla="*/ 1906920 w 2444400"/>
                <a:gd name="textAreaTop" fmla="*/ 274320 h 1247760"/>
                <a:gd name="textAreaBottom" fmla="*/ 97344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69696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еспечить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стойны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словия тру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264203"/>
            <p:cNvSpPr/>
            <p:nvPr/>
          </p:nvSpPr>
          <p:spPr>
            <a:xfrm flipV="1">
              <a:off x="6090840" y="4662360"/>
              <a:ext cx="3667320" cy="1247760"/>
            </a:xfrm>
            <a:custGeom>
              <a:avLst/>
              <a:gdLst>
                <a:gd name="textAreaLeft" fmla="*/ 636480 w 3667320"/>
                <a:gd name="textAreaRight" fmla="*/ 3030840 w 3667320"/>
                <a:gd name="textAreaTop" fmla="*/ 216360 h 1247760"/>
                <a:gd name="textAreaBottom" fmla="*/ 103140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333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еспечить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выжив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35268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6095880"/>
            <a:ext cx="527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По результатам исследования Института Социологии РАН, 200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400800" y="1981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92240" y="13320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C04-5733-45CE-98D0-9017C0F41C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потребностей 2004*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7400" y="1307880"/>
            <a:ext cx="413388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радация промышленной структур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Работают только добывающие предприятия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3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удшение социальной ситу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фицит рабочих м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жности трудоустройства для людей старшей возрастной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зкий уровень заработных пл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лищная проблема, не находящая 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рупция, отчуждения от федеральных вл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логическая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а преступности и, в частности, проблема нарком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63920" y="1307880"/>
            <a:ext cx="413388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сех городах, население выделяло в качеств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ов социальной полит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ледующие групп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-сир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имущие слои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ьники и молодеж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ять направлений содействия молодеж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сматриваются населением, всеми его группами как наиболее актуа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действие в трудоустройств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рьба с наркоман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ьная помощь школ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жи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82800" y="6095880"/>
            <a:ext cx="527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По результатам исследования Института Социологии РАН, 200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C13-A391-4789-B608-E779A114C0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и задачи благотворительно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и 2004 и 200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7760" y="1308240"/>
            <a:ext cx="45849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90128"/>
                </a:solidFill>
                <a:uFillTx/>
                <a:latin typeface="Arial"/>
              </a:rPr>
              <a:t>2004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овать решению наиболее острых проблем реги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зменить в позитивную сторону общественное восприятие социальной политики РУСА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еличить число людей в регионе, позитивно относящихся к РУСАЛу и его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дач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ициировать проекты, которые бы име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широкий социальный резонанс и ПР-эффект за счет оказания реальной  (доступной, заметной и наглядной) помощи населен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90128"/>
              </a:buClr>
              <a:buSzPct val="120000"/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овали вовлечению в благотворительную деятельность представителей  властей всех уровней, лидеров общественного мнения, молодежные и детские  объединения на предприятиях РУС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нить стратегический подход к реализации благотворительной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91320" y="1308240"/>
            <a:ext cx="4114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90128"/>
                </a:solidFill>
                <a:uFillTx/>
                <a:latin typeface="Arial"/>
              </a:rPr>
              <a:t>2005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чь сформировать у сотрудников чувство гордости за компанию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ствовать решению наиболее острых проблем реги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репить имидж РУСАЛа, обеспечив дальнейший рост узнаваемости бренда в регионах присутствия и количества людей, позитивно относящихся к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ствовать подготовки компании к выходу на I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ициировать проекты, которые бы позволили заинтересовать и привлечь к реализации сотрудников и членов их сем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Clr>
                <a:srgbClr val="c9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ить реализацию существующих про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A89-B0B1-4522-BCC0-A3203F3BC3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08:52:34Z</dcterms:created>
  <dc:creator>Danny Somekh</dc:creator>
  <dc:description/>
  <dc:language>en-US</dc:language>
  <cp:lastModifiedBy>MS Windows 2000 Pro</cp:lastModifiedBy>
  <cp:lastPrinted>2002-10-02T09:40:52Z</cp:lastPrinted>
  <dcterms:modified xsi:type="dcterms:W3CDTF">2004-11-18T11:24:52Z</dcterms:modified>
  <cp:revision>312</cp:revision>
  <dc:subject/>
  <dc:title>PowerPoint Presentation</dc:title>
</cp:coreProperties>
</file>