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4B9-08F8-4440-A724-AAB01A7E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FB6-DCDF-4ED4-884A-E56B9AD1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F23-71B8-43C1-A9D0-06F18A36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CD3-9EAC-4C46-82C8-4B006636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286-7567-4686-B5DE-F857E043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B7D-9D33-4828-8317-43A3A916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426-C110-4E6A-962B-46027317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3AF-5896-4BF6-B7B2-9C0D1349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5DD-7EF9-40EF-98B1-62E538E1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146-DC63-4C64-B99B-B10B0107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1BE-DA22-4F7A-8A54-D8675373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6F8-3179-473F-B9E9-AFE6465A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B705-E4E5-462B-8238-28FCBA84E5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2120"/>
            <a:ext cx="2057400" cy="640728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raphic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1593720" cy="1593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8840" y="0"/>
            <a:ext cx="708516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0"/>
            <a:ext cx="708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6629400"/>
            <a:ext cx="708660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6629400"/>
            <a:ext cx="312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ЦИРКОН, 200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Стр.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ACA3E4E2-E18C-4558-97D7-784D3782ABE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914400"/>
            <a:ext cx="49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Исследовательская группа ЦИРКО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228600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0000"/>
                </a:solidFill>
                <a:latin typeface="Times New Roman"/>
              </a:rPr>
              <a:t>Донорские организации: осведомленность и ожидания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4648320"/>
            <a:ext cx="67057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0000"/>
                </a:solidFill>
                <a:latin typeface="Garamond"/>
              </a:rPr>
              <a:t>Презентация на конференции</a:t>
            </a:r>
            <a:r>
              <a:rPr b="1" i="1" lang="ru-RU" sz="2000" spc="-1" strike="noStrike">
                <a:solidFill>
                  <a:srgbClr val="620000"/>
                </a:solidFill>
                <a:latin typeface="Garamond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620000"/>
                </a:solidFill>
                <a:latin typeface="Times New Roman"/>
              </a:rPr>
              <a:t>«Прозрачность деятельности донорских организаций: ожидания и реальность»</a:t>
            </a:r>
            <a:r>
              <a:rPr b="1" i="1" lang="ru-RU" sz="2000" spc="-1" strike="noStrike">
                <a:solidFill>
                  <a:srgbClr val="620000"/>
                </a:solidFill>
                <a:latin typeface="Garamond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620000"/>
                </a:solidFill>
                <a:latin typeface="Garamond"/>
              </a:rPr>
              <a:t>18</a:t>
            </a:r>
            <a:r>
              <a:rPr b="1" lang="ru-RU" sz="2000" spc="-1" strike="noStrike">
                <a:solidFill>
                  <a:srgbClr val="620000"/>
                </a:solidFill>
                <a:latin typeface="Garamond"/>
              </a:rPr>
              <a:t>.1</a:t>
            </a:r>
            <a:r>
              <a:rPr b="1" lang="en-US" sz="2000" spc="-1" strike="noStrike">
                <a:solidFill>
                  <a:srgbClr val="620000"/>
                </a:solidFill>
                <a:latin typeface="Garamond"/>
              </a:rPr>
              <a:t>1</a:t>
            </a:r>
            <a:r>
              <a:rPr b="1" lang="ru-RU" sz="2000" spc="-1" strike="noStrike">
                <a:solidFill>
                  <a:srgbClr val="620000"/>
                </a:solidFill>
                <a:latin typeface="Garamond"/>
              </a:rPr>
              <a:t>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1219320" cy="228600"/>
          </a:xfrm>
          <a:prstGeom prst="rect">
            <a:avLst/>
          </a:prstGeom>
          <a:solidFill>
            <a:srgbClr val="fd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36520"/>
            <a:ext cx="1219320" cy="639288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Graphic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20760" y="0"/>
            <a:ext cx="792324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6629400"/>
            <a:ext cx="792468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6214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Стр. </a:t>
            </a:r>
            <a:fld id="{B6574AA7-A563-472F-965B-0746219CFACE}" type="slidenum">
              <a:rPr b="1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6629400"/>
            <a:ext cx="312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ЦИРКОН, 200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60948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82320"/>
            <a:ext cx="74674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Verdana"/>
              </a:rPr>
              <a:t>Общее отношение</a:t>
            </a:r>
            <a:br>
              <a:rPr sz="2600"/>
            </a:br>
            <a:r>
              <a:rPr b="0" lang="en-US" sz="2600" spc="-1" strike="noStrike">
                <a:solidFill>
                  <a:srgbClr val="800000"/>
                </a:solidFill>
                <a:latin typeface="Verdana"/>
              </a:rPr>
              <a:t> к благотворительной деятель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0"/>
            <a:ext cx="533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Донорские организации: осведомленность и ожидания насе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576440" y="1371600"/>
            <a:ext cx="7186680" cy="50292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1219320" cy="228600"/>
          </a:xfrm>
          <a:prstGeom prst="rect">
            <a:avLst/>
          </a:prstGeom>
          <a:solidFill>
            <a:srgbClr val="fd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36520"/>
            <a:ext cx="1219320" cy="639288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Graphic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0760" y="0"/>
            <a:ext cx="792324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6629400"/>
            <a:ext cx="792468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66214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Стр. </a:t>
            </a:r>
            <a:fld id="{B6C81832-7717-4AF2-BFD1-C6B1329284C0}" type="slidenum">
              <a:rPr b="1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6629400"/>
            <a:ext cx="312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ЦИРКОН, 200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60948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8280"/>
            <a:ext cx="74674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Типологизация отношения к благотворительным организация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0"/>
            <a:ext cx="533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Донорские организации: осведомленность и ожидания насе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7467480" cy="4495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666880" y="59436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Потенциал продвиж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5029200"/>
            <a:ext cx="533520" cy="914400"/>
          </a:xfrm>
          <a:prstGeom prst="upArrow">
            <a:avLst>
              <a:gd name="adj1" fmla="val 50000"/>
              <a:gd name="adj2" fmla="val 4284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236520"/>
            <a:ext cx="1219320" cy="639288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Graphic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20760" y="0"/>
            <a:ext cx="792324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19320" y="6629400"/>
            <a:ext cx="792468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ЦИРКОН, 200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66214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Стр. </a:t>
            </a:r>
            <a:fld id="{225C6CF8-5B41-4043-95AD-FE61BAB56334}" type="slidenum">
              <a:rPr b="1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00240" y="4260960"/>
            <a:ext cx="14400" cy="14040"/>
          </a:xfrm>
          <a:prstGeom prst="ellipse">
            <a:avLst/>
          </a:prstGeom>
          <a:solidFill>
            <a:srgbClr val="db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624852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Источник: </a:t>
            </a:r>
            <a:r>
              <a:rPr b="1" i="1" lang="ru-RU" sz="1200" spc="-1" strike="noStrike">
                <a:solidFill>
                  <a:srgbClr val="800000"/>
                </a:solidFill>
                <a:latin typeface="Tahoma"/>
              </a:rPr>
              <a:t>Майерс Д. «Социальная психологи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458280"/>
            <a:ext cx="74674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Verdana"/>
              </a:rPr>
              <a:t>Слагаемые процесса коммуникации (убеждения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447920"/>
            <a:ext cx="73152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ММУНИКАТОР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ТО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БЩАЕ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ОБЩЕНИЕ (СОДЕРЖАНИЕ ПОСЛАН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ТО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БЩАЕТС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ЯЗЫК СООБЩЕНИЯ (ФОРМА ПОСЛАНИЯ)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АК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БЩАЕТС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НАЛ ПЕРЕДАЧИ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ПОСОБОМ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БЩАЕТС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УДИТОРИЯ – ОБЪЕКТ ВОЗДЕЙСТВИЯ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ОМУ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БЩАЕТС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236520"/>
            <a:ext cx="1219320" cy="639288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Graphic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220760" y="0"/>
            <a:ext cx="792324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6629400"/>
            <a:ext cx="792468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ЦИРКОН, 200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66214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Стр. </a:t>
            </a:r>
            <a:fld id="{C141BFF6-5021-4E9A-AF44-B77A5FC4138D}" type="slidenum">
              <a:rPr b="1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00240" y="4260960"/>
            <a:ext cx="14400" cy="14040"/>
          </a:xfrm>
          <a:prstGeom prst="ellipse">
            <a:avLst/>
          </a:prstGeom>
          <a:solidFill>
            <a:srgbClr val="db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5120" y="1905120"/>
            <a:ext cx="64767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вышение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информированности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граждан о благотворительной деятельности в Ро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вышение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довери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к агентам отрасли: конкретным организациям, частным лиц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 Упрощение коммуникации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язык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458280"/>
            <a:ext cx="74674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Verdana"/>
              </a:rPr>
              <a:t>Важнейшие вопросы продвижения донорских организац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236520"/>
            <a:ext cx="1219320" cy="639288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Graphic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219320" y="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6629400"/>
            <a:ext cx="792468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ЦИРКОН, 200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8880" y="66214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Стр. </a:t>
            </a:r>
            <a:fld id="{333DAE60-F543-4CC2-9DCA-EC983D0D50DD}" type="slidenum">
              <a:rPr b="1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0"/>
            <a:ext cx="7467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Финансовая активность населения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00240" y="4260960"/>
            <a:ext cx="14400" cy="14040"/>
          </a:xfrm>
          <a:prstGeom prst="ellipse">
            <a:avLst/>
          </a:prstGeom>
          <a:solidFill>
            <a:srgbClr val="db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13716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Verdana"/>
              </a:rPr>
              <a:t>WWW.ZIRCON.R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20760" y="0"/>
            <a:ext cx="792324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36520"/>
            <a:ext cx="1219320" cy="639288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Graphic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20760" y="0"/>
            <a:ext cx="792324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6629400"/>
            <a:ext cx="792468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66214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Стр. </a:t>
            </a:r>
            <a:fld id="{EABAE2FB-972E-416F-AE67-860D53A2F2CE}" type="slidenum">
              <a:rPr b="1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6629400"/>
            <a:ext cx="312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ЦИРКОН, 200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60948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456840"/>
            <a:ext cx="73152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Verdana"/>
              </a:rPr>
              <a:t>Постановка пробле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1143000"/>
            <a:ext cx="7467480" cy="54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В современных условиях эффективнос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актически любой деятельно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во многом зависит от того, насколько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убъект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способен создавать и поддерживать благоприятную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информационную среду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своей деятельности. Такая информационная среда должна обеспечивать желаемое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восприяти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убъект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всеми агентами его поля деятельности, с которыми этот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убъек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вступает в те или иные отношения (связи, взаимодействия и т.п.) – клиентами, партнерами, регулирующими органами, СМИ и т.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В том случае, когда транслируемый и воспринимаемый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браз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убъекта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обладает такими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позитивно окрашенными характеристиками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, как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лезность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надежность, оперативность, профессионализм и т.п., можно с большей уверенностью надеяться на то, что активность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убъекта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будет с интересом и доверием встречена его реальными и потенциальными контрагента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К сожалению, есть основания предполагать, что в настоящее время восприятие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донорских организаци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многими представителями целевых аудиторий не является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 должной степени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благоприятным, а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актуальны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образ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оноров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(как совокупность текущих представлений о н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х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) не соответствует ни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идеальному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(максимально позитивному), ни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реальному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(максимально точно отражающему текущее состояние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0"/>
            <a:ext cx="533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Донорские организации: осведомленность и ожидания насе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36520"/>
            <a:ext cx="1219320" cy="639288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Graphic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20760" y="0"/>
            <a:ext cx="792324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6629400"/>
            <a:ext cx="792468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ЦИРКОН, 200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8880" y="66214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Стр. </a:t>
            </a:r>
            <a:fld id="{0A6A4CFB-2612-479D-8F1B-0A6AB17324F6}" type="slidenum">
              <a:rPr b="1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00240" y="4260960"/>
            <a:ext cx="14400" cy="14040"/>
          </a:xfrm>
          <a:prstGeom prst="ellipse">
            <a:avLst/>
          </a:prstGeom>
          <a:solidFill>
            <a:srgbClr val="db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533160"/>
            <a:ext cx="74674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Verdana"/>
              </a:rPr>
              <a:t>Процесс коммуник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0"/>
            <a:ext cx="533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Донорские организации: осведомленность и ожидания насе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7467480" cy="54104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36520"/>
            <a:ext cx="1219320" cy="639288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Graphic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20760" y="0"/>
            <a:ext cx="792324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6629400"/>
            <a:ext cx="792468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ЦИРКОН, 200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66214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Стр. </a:t>
            </a:r>
            <a:fld id="{7FF0C67E-2942-4CA5-925F-8EFE81C29A4F}" type="slidenum">
              <a:rPr b="1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0240" y="4260960"/>
            <a:ext cx="14400" cy="14040"/>
          </a:xfrm>
          <a:prstGeom prst="ellipse">
            <a:avLst/>
          </a:prstGeom>
          <a:solidFill>
            <a:srgbClr val="db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609120"/>
            <a:ext cx="74674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Verdana"/>
              </a:rPr>
              <a:t>Характеристики исследова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0"/>
            <a:ext cx="533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Донорские организации: осведомленность и ожидания насе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676520"/>
            <a:ext cx="68580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Методической осново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исследования являлся выборочный опрос населения РФ способом формализованного интервью по месту жительства. Общий объем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выборочной совокупност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составил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респондент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в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 Выборочная совокупность репрезентирует население России по полу, возрасту и типу населенного пункта проживания. Опрос проводился в 40 субъектах РФ (100 населенных пунктов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дновременно был проведен выборочный опрос населения г. Москвы способом формализованного интервью по телефону. Объем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выборочной совокупност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составил 700 респондентов; выборочная совокупность репрезентирует население Москвы по полу и возраст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36520"/>
            <a:ext cx="1219320" cy="639288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Graphic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20760" y="0"/>
            <a:ext cx="792324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6629400"/>
            <a:ext cx="792468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ЦИРКОН, 200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66214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Стр. </a:t>
            </a:r>
            <a:fld id="{176A6587-35EA-412E-8A6A-320B1C06D890}" type="slidenum">
              <a:rPr b="1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00240" y="4260960"/>
            <a:ext cx="14400" cy="14040"/>
          </a:xfrm>
          <a:prstGeom prst="ellipse">
            <a:avLst/>
          </a:prstGeom>
          <a:solidFill>
            <a:srgbClr val="db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8280"/>
            <a:ext cx="74674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Verdana"/>
              </a:rPr>
              <a:t>Информированность о благотворительных организация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371600" y="1295280"/>
          <a:ext cx="7238880" cy="32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295280"/>
                    <a:ext cx="72388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8077320" y="3276720"/>
            <a:ext cx="75960" cy="914400"/>
          </a:xfrm>
          <a:custGeom>
            <a:avLst/>
            <a:gdLst>
              <a:gd name="textAreaLeft" fmla="*/ 0 w 75960"/>
              <a:gd name="textAreaRight" fmla="*/ 2736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3505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28800">
            <a:off x="7619400" y="4114440"/>
            <a:ext cx="1066680" cy="1447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23" stAng="10800000" swAng="5400000"/>
                <a:lnTo>
                  <a:pt x="14702" y="4037"/>
                </a:lnTo>
                <a:lnTo>
                  <a:pt x="14702" y="0"/>
                </a:lnTo>
                <a:lnTo>
                  <a:pt x="21600" y="6079"/>
                </a:lnTo>
                <a:lnTo>
                  <a:pt x="14702" y="12158"/>
                </a:lnTo>
                <a:lnTo>
                  <a:pt x="14702" y="8121"/>
                </a:lnTo>
                <a:lnTo>
                  <a:pt x="12427" y="8121"/>
                </a:lnTo>
                <a:arcTo wR="8343" hR="4039" stAng="16200000" swAng="-5400000"/>
                <a:lnTo>
                  <a:pt x="4084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4648320"/>
            <a:ext cx="434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ahoma"/>
                <a:ea typeface="Tahoma"/>
              </a:rPr>
              <a:t>«Можете ли Вы назвать какие-либо организации, осуществляющие в России благотворительную деятельность?»</a:t>
            </a:r>
            <a:r>
              <a:rPr b="1" i="1" lang="en-US" sz="1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791320" y="5181480"/>
            <a:ext cx="106668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19320" y="0"/>
            <a:ext cx="533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Донорские организации: осведомленность и ожидания насе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36520"/>
            <a:ext cx="1219320" cy="639288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Graphic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20760" y="0"/>
            <a:ext cx="792324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6629400"/>
            <a:ext cx="792468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ЦИРКОН, 200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66214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Стр. </a:t>
            </a:r>
            <a:fld id="{CD73A506-374E-48D5-A648-2AAFD25F2E29}" type="slidenum">
              <a:rPr b="1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00240" y="4260960"/>
            <a:ext cx="14400" cy="14040"/>
          </a:xfrm>
          <a:prstGeom prst="ellipse">
            <a:avLst/>
          </a:prstGeom>
          <a:solidFill>
            <a:srgbClr val="db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458280"/>
            <a:ext cx="74674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Verdana"/>
              </a:rPr>
              <a:t>Восприятие</a:t>
            </a:r>
            <a:br>
              <a:rPr sz="2600"/>
            </a:br>
            <a:r>
              <a:rPr b="0" lang="en-US" sz="2600" spc="-1" strike="noStrike">
                <a:solidFill>
                  <a:srgbClr val="800000"/>
                </a:solidFill>
                <a:latin typeface="Verdana"/>
              </a:rPr>
              <a:t> благотворительных организац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0"/>
            <a:ext cx="533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Донорские организации: осведомленность и ожидания насе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7315200" cy="50817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36520"/>
            <a:ext cx="1219320" cy="639288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Graphic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20760" y="0"/>
            <a:ext cx="792324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6629400"/>
            <a:ext cx="792468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ЦИРКОН, 200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6214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Стр. </a:t>
            </a:r>
            <a:fld id="{38ED91D8-1368-43EF-B9A6-5A64BA99C5F1}" type="slidenum">
              <a:rPr b="1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00240" y="4260960"/>
            <a:ext cx="14400" cy="14040"/>
          </a:xfrm>
          <a:prstGeom prst="ellipse">
            <a:avLst/>
          </a:prstGeom>
          <a:solidFill>
            <a:srgbClr val="db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456840"/>
            <a:ext cx="74674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Verdana"/>
              </a:rPr>
              <a:t>Общественные ожида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0"/>
            <a:ext cx="533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Донорские организации: осведомленность и ожидания насе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7162920" cy="54864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1219320" cy="228600"/>
          </a:xfrm>
          <a:prstGeom prst="rect">
            <a:avLst/>
          </a:prstGeom>
          <a:solidFill>
            <a:srgbClr val="fd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36520"/>
            <a:ext cx="1219320" cy="639288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Graphic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20760" y="0"/>
            <a:ext cx="792324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6629400"/>
            <a:ext cx="792468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66214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Стр. </a:t>
            </a:r>
            <a:fld id="{05666D42-07BE-430C-90F2-890FE545585B}" type="slidenum">
              <a:rPr b="1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6629400"/>
            <a:ext cx="312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ЦИРКОН, 200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60948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82320"/>
            <a:ext cx="74674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Verdana"/>
              </a:rPr>
              <a:t>Ожидаемые субъекты</a:t>
            </a:r>
            <a:br>
              <a:rPr sz="2600"/>
            </a:br>
            <a:r>
              <a:rPr b="0" lang="en-US" sz="2600" spc="-1" strike="noStrike">
                <a:solidFill>
                  <a:srgbClr val="800000"/>
                </a:solidFill>
                <a:latin typeface="Verdana"/>
              </a:rPr>
              <a:t> благотворительной деятель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0"/>
            <a:ext cx="533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Донорские организации: осведомленность и ожидания насе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71600" y="1371600"/>
          <a:ext cx="7086600" cy="434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371600"/>
                    <a:ext cx="7086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1219320" cy="228600"/>
          </a:xfrm>
          <a:prstGeom prst="rect">
            <a:avLst/>
          </a:prstGeom>
          <a:solidFill>
            <a:srgbClr val="fd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36520"/>
            <a:ext cx="1219320" cy="639288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Graphic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220760" y="0"/>
            <a:ext cx="792324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0"/>
            <a:ext cx="76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6629400"/>
            <a:ext cx="7924680" cy="228600"/>
          </a:xfrm>
          <a:prstGeom prst="rect">
            <a:avLst/>
          </a:prstGeom>
          <a:solidFill>
            <a:srgbClr val="b86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6214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Стр. </a:t>
            </a:r>
            <a:fld id="{5A2CF5BB-B9DE-4E12-ADB0-0F05702B209B}" type="slidenum">
              <a:rPr b="1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6629400"/>
            <a:ext cx="312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ЦИРКОН, 200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60948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533160"/>
            <a:ext cx="74674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Verdana"/>
              </a:rPr>
              <a:t>Государство и донор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0"/>
            <a:ext cx="533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Донорские организации: осведомленность и ожидания насе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447920" y="1219320"/>
            <a:ext cx="7391160" cy="48765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3T15:08:32Z</dcterms:created>
  <dc:creator>Задорин И.В.</dc:creator>
  <dc:description/>
  <dc:language>en-US</dc:language>
  <cp:lastModifiedBy>boss</cp:lastModifiedBy>
  <dcterms:modified xsi:type="dcterms:W3CDTF">2005-02-24T06:27:14Z</dcterms:modified>
  <cp:revision>145</cp:revision>
  <dc:subject/>
  <dc:title>Презентация PowerPoint</dc:title>
</cp:coreProperties>
</file>