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63A-505C-4DD5-81CD-DF687AA6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1AA-C975-4AEA-9CB5-F31617F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AB8-0A92-4A21-9981-47250439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BF6-17FA-48E6-8150-A4C2BE80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7FB-79EB-4628-9008-CE8705AC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C5C-38BC-4ECB-9710-CEA2D8E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E1B-DF60-4C8F-ACD6-4D83912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FBD-EF67-4C5F-8FC3-A6FB926A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754-6A9E-41D3-A73B-4291C63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D59-EF07-4D9F-A71E-854CE50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8241-8622-44DE-891A-F7FC610E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BB2-2314-4677-BAB7-053AEE7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55A-EE16-42CB-BA16-6B8FA943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F1C-4D8D-49F6-B29A-E37860F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B8F-F30F-4BF6-9ABD-C49F20A9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DB9-9D97-4770-85A6-AD57D468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C590-8F09-4A5A-B697-A7C3D74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48F-3A99-4139-A5A8-25D6307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D11-234F-4281-965F-DF5BBA1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9A9-D204-461A-913E-FB0A66A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ECB-36AE-4E77-8038-6C8E4559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7B6-1BE9-4211-9341-AF815E6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1A3-4055-4142-B122-502E530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0E8-A629-4868-8078-36816A7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914-EEC4-4F50-93D1-1A58B41845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628-0296-40B0-BCD9-8FAD7184BE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384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Фонды местных сообществ- местные грантодающие организации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нительный дире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ественного фонда Тольят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ирульников Бор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оммерческие организации – Партнер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олько ра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где про нас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жно: Процед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оммерческие организации- Потенциальные партнер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ому можн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что нам будет за эт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сколько вам надо плат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 : По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рантополучатели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бедные и обездоленны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по другом и не може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м звонили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можем чем – то, потом помоч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врат сред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 : Приглашение к конкурсу и отчетные доку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 прошедшие по конкурс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ните проек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тим выступить перед правлени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ничего не понимае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 : Положение о конкур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Частные лица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е нужна помощ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ому вы вообще помог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 : положения и процедур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ткая справк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а создания : 19 марта 1998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редители : Британский благотворительный фонд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ООО «Муниципальная финансовая компания», ТПП города Тольят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овой оборот фонда в 2003 году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9 750 000 руб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64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Финансирование деятельности фонда из местных источников (тыс.руб.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989000"/>
          <a:ext cx="817236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17236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2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ДИНАМИКА ФИНАНСОВЫХ РЕЗУЛЬТАТОВ ДЕЯТЕЛЬНОСТИ ФОН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оотношение финансирования грантового конкур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 местных средств и зарубежных доноров (тысяч руб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5640" y="1844640"/>
          <a:ext cx="8128080" cy="47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812808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97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Партнеры фонд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628640"/>
          <a:ext cx="82296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28640"/>
                    <a:ext cx="82296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питал фон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1827360"/>
            <a:ext cx="88930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но в 2003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диняет 13 Фондов и 3 ассоциированных чле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еография: от Алтайского края до Калининграда и Одесс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2003 год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едено  32 конкурса на общую сумму боле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 млн.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влечено от российских и зарубежных фондов более 13 млн.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влечено средств от местного сообщества около 34 млн.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97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лиенты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мерческие организации – Парт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мерческие организации- Потенциальные парт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нтополуч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прошедшие по конкур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ые 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рганы управления фондо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реди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ечи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 : По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43:47Z</dcterms:created>
  <dc:creator>Цирульников</dc:creator>
  <dc:description/>
  <dc:language>en-US</dc:language>
  <cp:lastModifiedBy>Цирульников</cp:lastModifiedBy>
  <dcterms:modified xsi:type="dcterms:W3CDTF">2004-11-18T06:46:20Z</dcterms:modified>
  <cp:revision>3</cp:revision>
  <dc:subject/>
  <dc:title>Фонды местных сообществ- местные грантодающие орган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6075417</vt:r8>
  </property>
  <property fmtid="{D5CDD505-2E9C-101B-9397-08002B2CF9AE}" pid="3" name="_AuthorEmail">
    <vt:lpwstr>boris@fondtol.infopac.ru</vt:lpwstr>
  </property>
  <property fmtid="{D5CDD505-2E9C-101B-9397-08002B2CF9AE}" pid="4" name="_AuthorEmailDisplayName">
    <vt:lpwstr>Борис Цирульников</vt:lpwstr>
  </property>
  <property fmtid="{D5CDD505-2E9C-101B-9397-08002B2CF9AE}" pid="5" name="_EmailSubject">
    <vt:lpwstr>презентации</vt:lpwstr>
  </property>
</Properties>
</file>