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34213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344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 55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BC51-B590-4C08-9885-EB603769C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тупая в конце нашей конференции, мне выпала честь обобщить то, что мы обсуждали с Вами за два прошедших дня. Тема моего выступления довольно общая, и я не являюсь экспертом в этой обла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й опыт работы в качестве члена Совета Директоров Юнайтед Вей может быть более полезен, чем моя работа Директора по маркетингу в «Уайт энд Кейс». В своей презентации я постаралась сосредоточить внимание на тех аспектах, которые, по моему мнению, являются ключевыми для широкого круга доно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Для ЮВ в Москве это очень важно. Мы собираем средства в Москве, в основном от частных доноров. Некоторые местные Ювс в Штатах имели достаточно серьезные проблемы, о которых писала пресса, из-за высоких административных расходов и других неподотчетных расходов. Мы публикуем годовой отчет о нашей финансовой деятельности, чтобы у наших доноров и потенциальных доноров не возникало никаких сомн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овать в рамках закона звучит хорошо, но на практике это значит в том числе, оплата всех налогов. Если мы не выполняем этих обязанностей, мы не можем сказать, что наши действия этич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тественно, мы должны требовать от наших грантополучателей такого же поведения. К сожалению мне приходилось встречаться на практике с такой ситуацией, когда донор поощряет неуплату налогов своими грантополучател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это возвращает нас к вопросу о благе общества… Служим ли мы на благо общества, если не платим налоги? Нам скорее нужно работать над тем, как корректировать законодательство, которое по нашему мнению неверно, а не нарушать ег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не уполномочена определять, какие стандарты должны быть, но мне кажется, что к ним должны относится те категории, которые мы с Вами обсуждали. Но я думаю, что самый главный из стандартов для российских доноров (я имею ввиду всех доноров, работающих в России), являе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рошая система управления, особенно ответственный Совет директоров или Попечительский совет, который отражал бы многообразие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о распространенный и своевременный годовой отчет сертифицированного аудито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ткая, продуманная процедура по выделению грантов, которая включает комплексную проверку грантополуча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гда действовать в рамках закона и требовать от своих грантополучателей такого же пове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 заключении, хочу сказать, что серьезный, продуманный подход к саморегулированию – единственный способ избегать вмешательство того хирурга, про которого говорили на открытии конферен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хотела бы начать с некоторых определений – и, прежде всег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нятия донорского сообщества, как я его понима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норское сообщество в России включает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 для всех нас общим является то, что 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, так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ующее понятие, которое, как я полагаю, необходимо определить для наших целей, это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онимаю это, как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раз, используя термин этический, я подразумеваю, что он включает в себя правовой аспект, поскольку, в моем понимании, невозможно поступать этично, если Ваши действия не находятся в правовом пол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олагаю, что существуют многие способы систематизации стандартов, но я сгруппировала их по этим категор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опять очень широкие аспекты, и я попытаюсь более подробно остановиться только на тех, которые я считаю наиболее важными для доноров, работающих в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ет много других стандартов, связанных с миссией, структурой и управлением. Но я сконцентрирую свое внимание на совете Директоров или Попечительском совете, так как в итоге, эти все вопросы входят в компетенцию Совета директо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статочно сложный момент, и я уверена, что существуют много мнений по этому вопросу, включая тех, кто считает, что совершенно не нужен управляющий орган, который осуществляет подобный контро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не буду долго останавливаться на этом. Это достаточно базовые понятия. Но я думаю, что в любой дискуссии о стандартах, обязательно нужно говорить о конфликтах интерес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думаю, что донор будет в наиболее выигрышном положении, при наличии таких стандартов. В Юнайтед Вей мы разрабатывали критерии для наших грантополучателей, описывали процедуру по получению грантов, опубликовали их и широко распространяли их. Это позволяет нам принимать решения о грантах объективно и сокращает время на рассмотрение документов соискателей. Если соискатель не подходит под наши критерии, это понятно достаточно быстр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ы комплексной проверки в Юнайтед В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ие заяв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ая проверка представителем Ю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знакомление с деятельностью соискателя на мес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итет по выделению средств дает рекомендации Совету директ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т директоров одобряет рекоменда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дующее посещение с целью контроля и наблю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оставление отчета грантополучателя прежде, чем им может быть выделен новый гран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идеале, этот процесс не должен быть слишком трудоемким для грантополучателя (баланс между нашим уважением к грантополучателям и их ответственность за расходованием наших денег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не буду долго останавливаться на этом, потому что это не может быть применимо ко всем донорам. А те, к кому это относится, уже очень хорошо понимают важность, даже критичность хорошего отношения со своими донор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765720"/>
            <a:ext cx="82774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47560"/>
            <a:ext cx="827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114440"/>
            <a:ext cx="827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765720"/>
            <a:ext cx="82774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47560"/>
            <a:ext cx="403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6800" y="1447560"/>
            <a:ext cx="403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114440"/>
            <a:ext cx="403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6800" y="4114440"/>
            <a:ext cx="403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765720"/>
            <a:ext cx="82774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47560"/>
            <a:ext cx="2665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3920" y="1447560"/>
            <a:ext cx="2665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2560" y="1447560"/>
            <a:ext cx="2665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114440"/>
            <a:ext cx="2665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3920" y="4114440"/>
            <a:ext cx="2665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2560" y="4114440"/>
            <a:ext cx="2665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65720"/>
            <a:ext cx="82774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95280" y="1447560"/>
            <a:ext cx="82771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Bef>
                <a:spcPts val="2100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Univers 65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65720"/>
            <a:ext cx="82774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447560"/>
            <a:ext cx="8277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765720"/>
            <a:ext cx="82774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47560"/>
            <a:ext cx="4039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6800" y="1447560"/>
            <a:ext cx="4039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765720"/>
            <a:ext cx="82774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520" y="803160"/>
            <a:ext cx="8277480" cy="150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Bef>
                <a:spcPts val="21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Univers 65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765720"/>
            <a:ext cx="82774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447560"/>
            <a:ext cx="403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6800" y="1447560"/>
            <a:ext cx="4039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4114440"/>
            <a:ext cx="403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765720"/>
            <a:ext cx="82774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47560"/>
            <a:ext cx="82771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spcBef>
                <a:spcPts val="2100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Univers 65 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765720"/>
            <a:ext cx="82774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47560"/>
            <a:ext cx="4039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6800" y="1447560"/>
            <a:ext cx="403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36800" y="4114440"/>
            <a:ext cx="403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65720"/>
            <a:ext cx="82774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447560"/>
            <a:ext cx="403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6800" y="1447560"/>
            <a:ext cx="403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5280" y="4114440"/>
            <a:ext cx="827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765720"/>
            <a:ext cx="82774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447560"/>
            <a:ext cx="827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5280" y="4114440"/>
            <a:ext cx="827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765720"/>
            <a:ext cx="82774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47560"/>
            <a:ext cx="403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6800" y="1447560"/>
            <a:ext cx="403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95280" y="4114440"/>
            <a:ext cx="403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36800" y="4114440"/>
            <a:ext cx="403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765720"/>
            <a:ext cx="82774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447560"/>
            <a:ext cx="2665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93920" y="1447560"/>
            <a:ext cx="2665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92560" y="1447560"/>
            <a:ext cx="2665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95280" y="4114440"/>
            <a:ext cx="2665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93920" y="4114440"/>
            <a:ext cx="2665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92560" y="4114440"/>
            <a:ext cx="2665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65720"/>
            <a:ext cx="82774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47560"/>
            <a:ext cx="8277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65720"/>
            <a:ext cx="82774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47560"/>
            <a:ext cx="4039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6800" y="1447560"/>
            <a:ext cx="4039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765720"/>
            <a:ext cx="82774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803160"/>
            <a:ext cx="8277480" cy="150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99"/>
              </a:lnSpc>
              <a:spcBef>
                <a:spcPts val="21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Univers 65 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65720"/>
            <a:ext cx="82774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47560"/>
            <a:ext cx="403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6800" y="1447560"/>
            <a:ext cx="4039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114440"/>
            <a:ext cx="403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765720"/>
            <a:ext cx="82774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47560"/>
            <a:ext cx="4039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6800" y="1447560"/>
            <a:ext cx="403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6800" y="4114440"/>
            <a:ext cx="403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765720"/>
            <a:ext cx="82774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47560"/>
            <a:ext cx="403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6800" y="1447560"/>
            <a:ext cx="403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114440"/>
            <a:ext cx="827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762120"/>
            <a:ext cx="9144000" cy="6095880"/>
          </a:xfrm>
          <a:prstGeom prst="rect">
            <a:avLst/>
          </a:prstGeom>
          <a:gradFill rotWithShape="0">
            <a:gsLst>
              <a:gs pos="0">
                <a:srgbClr val="0035ae"/>
              </a:gs>
              <a:gs pos="100000">
                <a:srgbClr val="0018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755640"/>
            <a:ext cx="9144000" cy="387360"/>
          </a:xfrm>
          <a:prstGeom prst="rect">
            <a:avLst/>
          </a:prstGeom>
          <a:solidFill>
            <a:srgbClr val="0099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803160"/>
            <a:ext cx="82774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 55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95280" y="1447560"/>
            <a:ext cx="8277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Univers 65 Bold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lvl="1" marL="574560" indent="-22860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Univers 65 Bold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lvl="2" marL="911160" indent="-22212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Univers 65 Bold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lvl="3" marL="1384200" indent="-29196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Univers 65 Bold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lvl="4" marL="2130480" indent="-26676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Univers 65 Bold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lvl="5" marL="2130480" indent="-266760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Univers 65 Bold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lvl="6" marL="2130480" indent="-266760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Univers 65 Bold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095880"/>
          </a:xfrm>
          <a:prstGeom prst="rect">
            <a:avLst/>
          </a:prstGeom>
          <a:gradFill rotWithShape="0">
            <a:gsLst>
              <a:gs pos="0">
                <a:srgbClr val="0035ae"/>
              </a:gs>
              <a:gs pos="100000">
                <a:srgbClr val="0018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55640"/>
            <a:ext cx="9144000" cy="334800"/>
          </a:xfrm>
          <a:prstGeom prst="rect">
            <a:avLst/>
          </a:prstGeom>
          <a:solidFill>
            <a:srgbClr val="0099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2979360"/>
            <a:ext cx="9140760" cy="2987640"/>
            <a:chOff x="0" y="2979360"/>
            <a:chExt cx="9140760" cy="2987640"/>
          </a:xfrm>
        </p:grpSpPr>
        <p:sp>
          <p:nvSpPr>
            <p:cNvPr id="45" name=""/>
            <p:cNvSpPr/>
            <p:nvPr/>
          </p:nvSpPr>
          <p:spPr>
            <a:xfrm>
              <a:off x="0" y="5965920"/>
              <a:ext cx="6334200" cy="0"/>
            </a:xfrm>
            <a:prstGeom prst="line">
              <a:avLst/>
            </a:prstGeom>
            <a:ln w="108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4471920"/>
              <a:ext cx="9140760" cy="0"/>
            </a:xfrm>
            <a:prstGeom prst="line">
              <a:avLst/>
            </a:prstGeom>
            <a:ln w="108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6332400" y="2979360"/>
              <a:ext cx="0" cy="2987640"/>
            </a:xfrm>
            <a:prstGeom prst="line">
              <a:avLst/>
            </a:prstGeom>
            <a:ln w="108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332400" y="2979720"/>
              <a:ext cx="2806920" cy="0"/>
            </a:xfrm>
            <a:prstGeom prst="line">
              <a:avLst/>
            </a:prstGeom>
            <a:ln w="108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400800" y="2971800"/>
            <a:ext cx="2743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lnSpc>
                <a:spcPts val="29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65520" y="3200400"/>
            <a:ext cx="1762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Univers 55"/>
              </a:rPr>
              <a:t>19 </a:t>
            </a:r>
            <a:r>
              <a:rPr b="0" lang="ru-RU" sz="1500" spc="-1" strike="noStrike">
                <a:solidFill>
                  <a:srgbClr val="ffffff"/>
                </a:solidFill>
                <a:latin typeface="Univers 55"/>
              </a:rPr>
              <a:t>ноября</a:t>
            </a:r>
            <a:r>
              <a:rPr b="0" lang="en-US" sz="1500" spc="-1" strike="noStrike">
                <a:solidFill>
                  <a:srgbClr val="ffffff"/>
                </a:solidFill>
                <a:latin typeface="Univers 55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Univers 55"/>
              </a:rPr>
              <a:t>2004</a:t>
            </a:r>
            <a:r>
              <a:rPr b="0" lang="ru-RU" sz="1400" spc="-1" strike="noStrike">
                <a:solidFill>
                  <a:srgbClr val="ffffff"/>
                </a:solidFill>
                <a:latin typeface="Univers 55"/>
              </a:rPr>
              <a:t>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3120" y="4051440"/>
            <a:ext cx="527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Univers 55"/>
              </a:rPr>
              <a:t>Форум Доноров, Вторая ежегодная конференция, Моск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 55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spcBef>
                <a:spcPts val="21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Univers 65 Bold"/>
              </a:rPr>
              <a:t>Click to edit the outline text format</a:t>
            </a:r>
            <a:endParaRPr b="0" lang="en-US" sz="2800" spc="-1" strike="noStrike">
              <a:solidFill>
                <a:srgbClr val="bbe0e3"/>
              </a:solidFill>
              <a:latin typeface="Univers 65 Bold"/>
            </a:endParaRPr>
          </a:p>
          <a:p>
            <a:pPr lvl="1" marL="457200" indent="-111240" algn="ctr">
              <a:spcBef>
                <a:spcPts val="711"/>
              </a:spcBef>
              <a:spcAft>
                <a:spcPts val="711"/>
              </a:spcAft>
              <a:buClr>
                <a:srgbClr val="ffffff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Univers 65 Bold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Univers 65 Bold"/>
            </a:endParaRPr>
          </a:p>
          <a:p>
            <a:pPr lvl="2" marL="914400" indent="-225360" algn="ctr">
              <a:spcBef>
                <a:spcPts val="638"/>
              </a:spcBef>
              <a:spcAft>
                <a:spcPts val="638"/>
              </a:spcAft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Univers 65 Bold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Univers 65 Bold"/>
            </a:endParaRPr>
          </a:p>
          <a:p>
            <a:pPr lvl="3" marL="1371600" indent="-279360" algn="ctr">
              <a:spcBef>
                <a:spcPts val="638"/>
              </a:spcBef>
              <a:spcAft>
                <a:spcPts val="638"/>
              </a:spcAft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Univers 65 Bold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Univers 65 Bold"/>
            </a:endParaRPr>
          </a:p>
          <a:p>
            <a:pPr lvl="4" marL="1828800" indent="34920" algn="ctr">
              <a:spcBef>
                <a:spcPts val="638"/>
              </a:spcBef>
              <a:spcAft>
                <a:spcPts val="638"/>
              </a:spcAft>
              <a:buClr>
                <a:srgbClr val="ffffff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Univers 65 Bold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Univers 65 Bold"/>
            </a:endParaRPr>
          </a:p>
          <a:p>
            <a:pPr lvl="5" marL="1828800" indent="34920">
              <a:spcBef>
                <a:spcPts val="425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Univers 65 Bold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Univers 65 Bold"/>
            </a:endParaRPr>
          </a:p>
          <a:p>
            <a:pPr lvl="6" marL="1828800" indent="34920">
              <a:spcBef>
                <a:spcPts val="425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Univers 65 Bold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3886200"/>
            <a:ext cx="5639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80880" y="4724280"/>
            <a:ext cx="56390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3399"/>
              </a:lnSpc>
              <a:spcBef>
                <a:spcPts val="21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Univers 65 Bold"/>
              </a:rPr>
              <a:t>СТАНДАРТЫ ОТКРЫТОСТИ ДОНОРСКОГО СООБЩЕСТВА</a:t>
            </a:r>
            <a:endParaRPr b="0" lang="en-US" sz="2800" spc="-1" strike="noStrike">
              <a:solidFill>
                <a:srgbClr val="bbe0e3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803160"/>
            <a:ext cx="82774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Univers 55"/>
              </a:rPr>
              <a:t>Подотчетность перед широкой общественностью</a:t>
            </a: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47560"/>
            <a:ext cx="8277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Годовой отчет, выполненный сертифицированным аудитором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lvl="1" marL="574560" indent="-228600">
              <a:spcBef>
                <a:spcPts val="711"/>
              </a:spcBef>
              <a:spcAft>
                <a:spcPts val="711"/>
              </a:spcAft>
              <a:buClr>
                <a:srgbClr val="ffffff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Univers 65 Bold"/>
              </a:rPr>
              <a:t>Миссия</a:t>
            </a:r>
            <a:endParaRPr b="0" lang="en-US" sz="1900" spc="-1" strike="noStrike">
              <a:solidFill>
                <a:srgbClr val="ffffff"/>
              </a:solidFill>
              <a:latin typeface="Univers 65 Bold"/>
            </a:endParaRPr>
          </a:p>
          <a:p>
            <a:pPr lvl="1" marL="574560" indent="-228600">
              <a:spcBef>
                <a:spcPts val="711"/>
              </a:spcBef>
              <a:spcAft>
                <a:spcPts val="711"/>
              </a:spcAft>
              <a:buClr>
                <a:srgbClr val="ffffff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Univers 65 Bold"/>
              </a:rPr>
              <a:t>Деятельность</a:t>
            </a:r>
            <a:endParaRPr b="0" lang="en-US" sz="1900" spc="-1" strike="noStrike">
              <a:solidFill>
                <a:srgbClr val="ffffff"/>
              </a:solidFill>
              <a:latin typeface="Univers 65 Bold"/>
            </a:endParaRPr>
          </a:p>
          <a:p>
            <a:pPr lvl="1" marL="574560" indent="-228600">
              <a:spcBef>
                <a:spcPts val="711"/>
              </a:spcBef>
              <a:spcAft>
                <a:spcPts val="711"/>
              </a:spcAft>
              <a:buClr>
                <a:srgbClr val="ffffff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Univers 65 Bold"/>
              </a:rPr>
              <a:t>Финансовая деятельность (включая источники финансирования)</a:t>
            </a:r>
            <a:endParaRPr b="0" lang="en-US" sz="1900" spc="-1" strike="noStrike">
              <a:solidFill>
                <a:srgbClr val="ffffff"/>
              </a:solidFill>
              <a:latin typeface="Univers 65 Bold"/>
            </a:endParaRPr>
          </a:p>
          <a:p>
            <a:pPr marL="231840" indent="-23184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Всегда действовать в рамках закона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marL="231840" indent="-23184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Настаивать на том, чтобы свои грантополучатели тоже действовали в рамках закона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marL="231840" indent="-23184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И снова блага общества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lvl="1" marL="574560" indent="0">
              <a:spcBef>
                <a:spcPts val="711"/>
              </a:spcBef>
              <a:spcAft>
                <a:spcPts val="71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803160"/>
            <a:ext cx="82774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Univers 55"/>
              </a:rPr>
              <a:t>Стандарты для всего донорского сообщества</a:t>
            </a: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47560"/>
            <a:ext cx="8277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Индивидуальные стандарты для каждого донора не способствуют саморегулированию донорского сектора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marL="231840" indent="-23184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Этический Кодекс Форума Доноров имеет общий смысл и не заменяет стандартов для донорского сообщества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marL="231840" indent="-23184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Скорее всего нужно будет разработать общий подход к стандартам, которые могут быть применимы для разных грантодающих организаций (например, для частных фондов, корпоративных фондов, общественных фондов и т.д.)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803160"/>
            <a:ext cx="82774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 55"/>
              </a:rPr>
              <a:t>“</a:t>
            </a:r>
            <a:r>
              <a:rPr b="0" lang="ru-RU" sz="2000" spc="-1" strike="noStrike">
                <a:solidFill>
                  <a:srgbClr val="ffffff"/>
                </a:solidFill>
                <a:latin typeface="Univers 55"/>
              </a:rPr>
              <a:t>Донорское сообщество</a:t>
            </a:r>
            <a:r>
              <a:rPr b="0" lang="en-US" sz="2000" spc="-1" strike="noStrike">
                <a:solidFill>
                  <a:srgbClr val="ffffff"/>
                </a:solidFill>
                <a:latin typeface="Univers 55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47560"/>
            <a:ext cx="8277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Донорское сообщество в России включает в себя фонды, правительственные и межправительственные организации, некоммерческие организации, частные компании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marL="231840" indent="-23184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Грантодающие организации управляют ресурсами, выделенными для блага общества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marL="231840" indent="-23184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Наш долг показать, что мы действительно работаем на благо общества, придерживаясь самых высоких стандартов</a:t>
            </a:r>
            <a:r>
              <a:rPr b="0" lang="en-US" sz="2100" spc="-1" strike="noStrike">
                <a:solidFill>
                  <a:srgbClr val="ffffff"/>
                </a:solidFill>
                <a:latin typeface="Univers 65 Bold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этики, подотчетности и управления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marL="231840"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marL="231840" indent="0"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803160"/>
            <a:ext cx="82774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 55"/>
              </a:rPr>
              <a:t>“</a:t>
            </a:r>
            <a:r>
              <a:rPr b="0" lang="ru-RU" sz="2000" spc="-1" strike="noStrike">
                <a:solidFill>
                  <a:srgbClr val="ffffff"/>
                </a:solidFill>
                <a:latin typeface="Univers 55"/>
              </a:rPr>
              <a:t>Стандарты открытости </a:t>
            </a:r>
            <a:r>
              <a:rPr b="0" lang="en-US" sz="2000" spc="-1" strike="noStrike">
                <a:solidFill>
                  <a:srgbClr val="ffffff"/>
                </a:solidFill>
                <a:latin typeface="Univers 55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47560"/>
            <a:ext cx="8277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Принципы, которые позволяют</a:t>
            </a:r>
            <a:r>
              <a:rPr b="0" lang="en-US" sz="2100" spc="-1" strike="noStrike">
                <a:solidFill>
                  <a:srgbClr val="ffffff"/>
                </a:solidFill>
                <a:latin typeface="Univers 65 Bold"/>
              </a:rPr>
              <a:t>: 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lvl="1" marL="723960" indent="-378000">
              <a:spcBef>
                <a:spcPts val="711"/>
              </a:spcBef>
              <a:spcAft>
                <a:spcPts val="711"/>
              </a:spcAft>
              <a:buClr>
                <a:srgbClr val="ffffff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Univers 65 Bold"/>
              </a:rPr>
              <a:t>проводить разумную политику и подотчетную деятельность </a:t>
            </a:r>
            <a:endParaRPr b="0" lang="en-US" sz="1900" spc="-1" strike="noStrike">
              <a:solidFill>
                <a:srgbClr val="ffffff"/>
              </a:solidFill>
              <a:latin typeface="Univers 65 Bold"/>
            </a:endParaRPr>
          </a:p>
          <a:p>
            <a:pPr lvl="1" marL="723960" indent="-378000">
              <a:spcBef>
                <a:spcPts val="711"/>
              </a:spcBef>
              <a:spcAft>
                <a:spcPts val="711"/>
              </a:spcAft>
              <a:buClr>
                <a:srgbClr val="ffffff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Univers 65 Bold"/>
              </a:rPr>
              <a:t>обеспечивать принятие решений с этических позиций</a:t>
            </a:r>
            <a:endParaRPr b="0" lang="en-US" sz="1900" spc="-1" strike="noStrike">
              <a:solidFill>
                <a:srgbClr val="ffffff"/>
              </a:solidFill>
              <a:latin typeface="Univers 65 Bold"/>
            </a:endParaRPr>
          </a:p>
          <a:p>
            <a:pPr lvl="1" marL="723960" indent="-378000">
              <a:spcBef>
                <a:spcPts val="711"/>
              </a:spcBef>
              <a:spcAft>
                <a:spcPts val="711"/>
              </a:spcAft>
              <a:buClr>
                <a:srgbClr val="ffffff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Univers 65 Bold"/>
              </a:rPr>
              <a:t>создавать возможности для грантодающих организаций выполнять свои миссии</a:t>
            </a:r>
            <a:endParaRPr b="0" lang="en-US" sz="19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803160"/>
            <a:ext cx="82774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Univers 55"/>
              </a:rPr>
              <a:t>Зачем нужны стандарты</a:t>
            </a:r>
            <a:r>
              <a:rPr b="0" lang="en-US" sz="2000" spc="-1" strike="noStrike">
                <a:solidFill>
                  <a:srgbClr val="ffffff"/>
                </a:solidFill>
                <a:latin typeface="Univers 55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47560"/>
            <a:ext cx="8277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Стандарты служат донорам</a:t>
            </a:r>
            <a:r>
              <a:rPr b="0" lang="en-US" sz="2100" spc="-1" strike="noStrike">
                <a:solidFill>
                  <a:srgbClr val="ffffff"/>
                </a:solidFill>
                <a:latin typeface="Univers 65 Bold"/>
              </a:rPr>
              <a:t> </a:t>
            </a:r>
            <a:r>
              <a:rPr b="0" lang="ru-RU" sz="2100" spc="-1" strike="noStrike" u="sng">
                <a:solidFill>
                  <a:srgbClr val="ffffff"/>
                </a:solidFill>
                <a:uFillTx/>
                <a:latin typeface="Univers 65 Bold"/>
              </a:rPr>
              <a:t>опорой с учетом все возрастающего пристального внимания </a:t>
            </a: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 со стороны правительства, средств массовой информации и общественного мнения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marL="231840" indent="-23184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Стандарты помогают донорам </a:t>
            </a:r>
            <a:r>
              <a:rPr b="0" lang="ru-RU" sz="2100" spc="-1" strike="noStrike" u="sng">
                <a:solidFill>
                  <a:srgbClr val="ffffff"/>
                </a:solidFill>
                <a:uFillTx/>
                <a:latin typeface="Univers 65 Bold"/>
              </a:rPr>
              <a:t>избегать последствий чужих ошибок и</a:t>
            </a: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  </a:t>
            </a:r>
            <a:r>
              <a:rPr b="0" lang="ru-RU" sz="2100" spc="-1" strike="noStrike" u="sng">
                <a:solidFill>
                  <a:srgbClr val="ffffff"/>
                </a:solidFill>
                <a:uFillTx/>
                <a:latin typeface="Univers 65 Bold"/>
              </a:rPr>
              <a:t>злоупотреблений</a:t>
            </a: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marL="231840" indent="-23184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Стандарты </a:t>
            </a:r>
            <a:r>
              <a:rPr b="0" lang="ru-RU" sz="2100" spc="-1" strike="noStrike" u="sng">
                <a:solidFill>
                  <a:srgbClr val="ffffff"/>
                </a:solidFill>
                <a:uFillTx/>
                <a:latin typeface="Univers 65 Bold"/>
              </a:rPr>
              <a:t>содействуют саморегуляции в этой сфере</a:t>
            </a: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 и могут помочь донорам противостоять затрудняющему их деятельность государственному регулированию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marL="231840" indent="-23184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Стандарты </a:t>
            </a:r>
            <a:r>
              <a:rPr b="0" lang="ru-RU" sz="2100" spc="-1" strike="noStrike" u="sng">
                <a:solidFill>
                  <a:srgbClr val="ffffff"/>
                </a:solidFill>
                <a:uFillTx/>
                <a:latin typeface="Univers 65 Bold"/>
              </a:rPr>
              <a:t>создают возможности</a:t>
            </a: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 для организации, экономя время, сосредоточивая энергию сотрудников и Совета директоров на более конкретных задачах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803160"/>
            <a:ext cx="82774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Univers 55"/>
              </a:rPr>
              <a:t>Какие стандарты</a:t>
            </a:r>
            <a:r>
              <a:rPr b="0" lang="en-US" sz="2000" spc="-1" strike="noStrike">
                <a:solidFill>
                  <a:srgbClr val="ffffff"/>
                </a:solidFill>
                <a:latin typeface="Univers 55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47560"/>
            <a:ext cx="8277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Миссия, структура и управление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marL="231840" indent="-23184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Конфликт интересов 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marL="231840" indent="-23184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Процесс выделения грантов, отношения с грантополучателями 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marL="231840" indent="-23184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Отношения с донорами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marL="231840" indent="-23184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Подотчетность перед широкой общественностью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lvl="2" marL="911160" indent="0">
              <a:spcBef>
                <a:spcPts val="638"/>
              </a:spcBef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803160"/>
            <a:ext cx="82774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 55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Univers 55"/>
              </a:rPr>
              <a:t>Миссия, структура и управление</a:t>
            </a: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47560"/>
            <a:ext cx="8277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Совет директоров или попечительский совет: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lvl="1" marL="574560" indent="-228600">
              <a:spcBef>
                <a:spcPts val="711"/>
              </a:spcBef>
              <a:spcAft>
                <a:spcPts val="711"/>
              </a:spcAft>
              <a:buClr>
                <a:srgbClr val="ffffff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Univers 65 Bold"/>
              </a:rPr>
              <a:t>Отвечает за миссию, направление деятельности и политику (включая принципы, которыми руководствуется совет директоров и его комитеты)</a:t>
            </a:r>
            <a:endParaRPr b="0" lang="en-US" sz="1900" spc="-1" strike="noStrike">
              <a:solidFill>
                <a:srgbClr val="ffffff"/>
              </a:solidFill>
              <a:latin typeface="Univers 65 Bold"/>
            </a:endParaRPr>
          </a:p>
          <a:p>
            <a:pPr lvl="1" marL="574560" indent="-228600">
              <a:spcBef>
                <a:spcPts val="711"/>
              </a:spcBef>
              <a:spcAft>
                <a:spcPts val="711"/>
              </a:spcAft>
              <a:buClr>
                <a:srgbClr val="ffffff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Univers 65 Bold"/>
              </a:rPr>
              <a:t>Обеспечивает необходимые человеческие и финансовые ресурсы, активно наблюдает и оценивает работу исполнительного директора организации</a:t>
            </a:r>
            <a:endParaRPr b="0" lang="en-US" sz="1900" spc="-1" strike="noStrike">
              <a:solidFill>
                <a:srgbClr val="ffffff"/>
              </a:solidFill>
              <a:latin typeface="Univers 65 Bold"/>
            </a:endParaRPr>
          </a:p>
          <a:p>
            <a:pPr lvl="1" marL="574560" indent="-228600">
              <a:spcBef>
                <a:spcPts val="711"/>
              </a:spcBef>
              <a:spcAft>
                <a:spcPts val="711"/>
              </a:spcAft>
              <a:buClr>
                <a:srgbClr val="ffffff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Univers 65 Bold"/>
              </a:rPr>
              <a:t>Рассматривает и одобряет ежегодный бюджет организации</a:t>
            </a:r>
            <a:endParaRPr b="0" lang="en-US" sz="1900" spc="-1" strike="noStrike">
              <a:solidFill>
                <a:srgbClr val="ffffff"/>
              </a:solidFill>
              <a:latin typeface="Univers 65 Bold"/>
            </a:endParaRPr>
          </a:p>
          <a:p>
            <a:pPr lvl="1" marL="574560" indent="-228600">
              <a:spcBef>
                <a:spcPts val="711"/>
              </a:spcBef>
              <a:spcAft>
                <a:spcPts val="711"/>
              </a:spcAft>
              <a:buClr>
                <a:srgbClr val="ffffff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Univers 65 Bold"/>
              </a:rPr>
              <a:t>Отвечает за деятельность организации в соответствии с применимым законодательством</a:t>
            </a:r>
            <a:endParaRPr b="0" lang="en-US" sz="1900" spc="-1" strike="noStrike">
              <a:solidFill>
                <a:srgbClr val="ffffff"/>
              </a:solidFill>
              <a:latin typeface="Univers 65 Bold"/>
            </a:endParaRPr>
          </a:p>
          <a:p>
            <a:pPr lvl="1" marL="574560" indent="-228600">
              <a:spcBef>
                <a:spcPts val="711"/>
              </a:spcBef>
              <a:spcAft>
                <a:spcPts val="711"/>
              </a:spcAft>
              <a:buClr>
                <a:srgbClr val="ffffff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Univers 65 Bold"/>
              </a:rPr>
              <a:t>Отвечает за принятие решения по выделению всех грантов  (могут делегировать свои полномочия в рабочем порядке)</a:t>
            </a:r>
            <a:endParaRPr b="0" lang="en-US" sz="1900" spc="-1" strike="noStrike">
              <a:solidFill>
                <a:srgbClr val="ffffff"/>
              </a:solidFill>
              <a:latin typeface="Univers 65 Bold"/>
            </a:endParaRPr>
          </a:p>
          <a:p>
            <a:pPr lvl="1" marL="574560" indent="0">
              <a:spcBef>
                <a:spcPts val="711"/>
              </a:spcBef>
              <a:spcAft>
                <a:spcPts val="71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803160"/>
            <a:ext cx="82774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Univers 55"/>
              </a:rPr>
              <a:t>Конфликт интересов</a:t>
            </a: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47560"/>
            <a:ext cx="8277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Концепция конфликта интересов должна: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lvl="1" marL="708120" indent="-362160">
              <a:spcBef>
                <a:spcPts val="711"/>
              </a:spcBef>
              <a:spcAft>
                <a:spcPts val="711"/>
              </a:spcAft>
              <a:buClr>
                <a:srgbClr val="ffffff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Univers 65 Bold"/>
              </a:rPr>
              <a:t>Запретить пользоваться служебным положением для получения личной финансовой выгоды</a:t>
            </a:r>
            <a:endParaRPr b="0" lang="en-US" sz="1900" spc="-1" strike="noStrike">
              <a:solidFill>
                <a:srgbClr val="ffffff"/>
              </a:solidFill>
              <a:latin typeface="Univers 65 Bold"/>
            </a:endParaRPr>
          </a:p>
          <a:p>
            <a:pPr lvl="1" marL="708120" indent="-362160">
              <a:spcBef>
                <a:spcPts val="711"/>
              </a:spcBef>
              <a:spcAft>
                <a:spcPts val="711"/>
              </a:spcAft>
              <a:buClr>
                <a:srgbClr val="ffffff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Univers 65 Bold"/>
              </a:rPr>
              <a:t>Установить порядок для отстранения сотрудников и членов управляющего органа организации от участия в решении о выделении грантов организациям, в которых они состоят членами совета директоров или с которыми у них есть конфликт интересов</a:t>
            </a:r>
            <a:endParaRPr b="0" lang="en-US" sz="1900" spc="-1" strike="noStrike">
              <a:solidFill>
                <a:srgbClr val="ffffff"/>
              </a:solidFill>
              <a:latin typeface="Univers 65 Bold"/>
            </a:endParaRPr>
          </a:p>
          <a:p>
            <a:pPr lvl="1" marL="708120" indent="-362160">
              <a:spcBef>
                <a:spcPts val="711"/>
              </a:spcBef>
              <a:spcAft>
                <a:spcPts val="711"/>
              </a:spcAft>
              <a:buClr>
                <a:srgbClr val="ffffff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Univers 65 Bold"/>
              </a:rPr>
              <a:t>Быть распространена для широкого круга пользователей</a:t>
            </a:r>
            <a:endParaRPr b="0" lang="en-US" sz="1900" spc="-1" strike="noStrike">
              <a:solidFill>
                <a:srgbClr val="ffffff"/>
              </a:solidFill>
              <a:latin typeface="Univers 65 Bold"/>
            </a:endParaRPr>
          </a:p>
          <a:p>
            <a:pPr lvl="1" marL="708120" indent="0">
              <a:spcBef>
                <a:spcPts val="711"/>
              </a:spcBef>
              <a:spcAft>
                <a:spcPts val="71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803160"/>
            <a:ext cx="82774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Univers 55"/>
              </a:rPr>
              <a:t>Процедура выделения грантов, отношения с грантополучателями</a:t>
            </a: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447560"/>
            <a:ext cx="8277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Комплексная проверка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lvl="1" marL="574560" indent="-228600">
              <a:spcBef>
                <a:spcPts val="711"/>
              </a:spcBef>
              <a:spcAft>
                <a:spcPts val="711"/>
              </a:spcAft>
              <a:buClr>
                <a:srgbClr val="ffffff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Univers 65 Bold"/>
              </a:rPr>
              <a:t>Доноры обязательно должны знать, как тратятся их деньги</a:t>
            </a:r>
            <a:endParaRPr b="0" lang="en-US" sz="1900" spc="-1" strike="noStrike">
              <a:solidFill>
                <a:srgbClr val="ffffff"/>
              </a:solidFill>
              <a:latin typeface="Univers 65 Bold"/>
            </a:endParaRPr>
          </a:p>
          <a:p>
            <a:pPr lvl="1" marL="574560" indent="-228600">
              <a:spcBef>
                <a:spcPts val="711"/>
              </a:spcBef>
              <a:spcAft>
                <a:spcPts val="711"/>
              </a:spcAft>
              <a:buClr>
                <a:srgbClr val="ffffff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Univers 65 Bold"/>
              </a:rPr>
              <a:t>Обязательное наличие какого-либо аудита (до и после)</a:t>
            </a:r>
            <a:endParaRPr b="0" lang="en-US" sz="1900" spc="-1" strike="noStrike">
              <a:solidFill>
                <a:srgbClr val="ffffff"/>
              </a:solidFill>
              <a:latin typeface="Univers 65 Bold"/>
            </a:endParaRPr>
          </a:p>
          <a:p>
            <a:pPr lvl="1" marL="574560" indent="-228600">
              <a:spcBef>
                <a:spcPts val="711"/>
              </a:spcBef>
              <a:spcAft>
                <a:spcPts val="711"/>
              </a:spcAft>
              <a:buClr>
                <a:srgbClr val="ffffff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Univers 65 Bold"/>
              </a:rPr>
              <a:t>В идеале ежегодная проверка расходования грантов сторонней организацией</a:t>
            </a:r>
            <a:endParaRPr b="0" lang="en-US" sz="1900" spc="-1" strike="noStrike">
              <a:solidFill>
                <a:srgbClr val="ffffff"/>
              </a:solidFill>
              <a:latin typeface="Univers 65 Bold"/>
            </a:endParaRPr>
          </a:p>
          <a:p>
            <a:pPr marL="231840" indent="-23184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Уважительное отношение к соискателям грантов и грантополучателям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marL="231840" indent="-23184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Доступность и открытость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marL="231840" indent="-23184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Соблюдение конфиденциальности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lvl="1" marL="574560" indent="0">
              <a:spcBef>
                <a:spcPts val="711"/>
              </a:spcBef>
              <a:spcAft>
                <a:spcPts val="71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803160"/>
            <a:ext cx="82774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Univers 55"/>
              </a:rPr>
              <a:t>Отношения с донорами</a:t>
            </a: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447560"/>
            <a:ext cx="8277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Просвещение доноров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marL="231840" indent="-23184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Вовлечение доноров в решение общественных задач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marL="231840" indent="-23184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Выражение признательности за их финансовую поддержку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  <a:p>
            <a:pPr marL="231840" indent="-23184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Univers 65 Bold"/>
              </a:rPr>
              <a:t>Соблюдение конфиденциальности (по их желанию)</a:t>
            </a:r>
            <a:endParaRPr b="0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5:22:30Z</dcterms:created>
  <dc:creator>WCUser</dc:creator>
  <dc:description/>
  <dc:language>en-US</dc:language>
  <cp:lastModifiedBy>WCuser</cp:lastModifiedBy>
  <dcterms:modified xsi:type="dcterms:W3CDTF">2004-11-19T12:15:29Z</dcterms:modified>
  <cp:revision>125</cp:revision>
  <dc:subject/>
  <dc:title>Asia Pacific Partner Retreat Effective Use of Our Marketing Resources </dc:title>
</cp:coreProperties>
</file>