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B00-FF3C-43CF-A4D1-59901A3F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1B2-38F1-4D15-BC23-F286C70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F62-70E1-47BE-A74B-406E586B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E75-D4D2-4A92-80F6-94B0EFB0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E37-52A8-46D3-9F8E-916E4892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20D-E63F-4928-B371-E545B7BF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C77-4D7E-4B1C-AF66-5473B017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84C-0061-41A3-B469-B59C8980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88D-D778-4EB1-B8C8-AC08231F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D37-4DE6-49D1-8FFA-15EC01B3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C27-0676-47FD-A87C-C0500CF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A8D-7029-4772-8E5B-A0047739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2899-9C61-4684-8B70-6F3E02D69C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контроль за деятельност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рских организаций в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029200"/>
            <a:ext cx="731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настасия Акрамовска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иректор юридического отдел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F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ект изменений в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. 251 НК Р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жесточение требований к грантодателя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 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сийские НКО – по перечн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 и международ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рядке, аналогичном установленному в отношении средств (имущества), полученных в виде безвозмездной помощи (содействия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норские организации: нет понятия, но есть явление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т четких рамок и критериев контроля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 есть желание все контролир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т системы контр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нор: есть подозрения в совершении махинаций, нет ясного и прозрачного контроля - нет довер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нтрол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наблюдение, надсмотр за чем-либо с целью провер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ючевые парамет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т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существляе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государ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г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контролирую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«доноров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проверяется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«деятельность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    донорских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                   организаций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4343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534520" cy="6620040"/>
        </p:xfrm>
        <a:graphic>
          <a:graphicData uri="http://schemas.openxmlformats.org/drawingml/2006/table">
            <a:tbl>
              <a:tblPr/>
              <a:tblGrid>
                <a:gridCol w="2284560"/>
                <a:gridCol w="3206880"/>
                <a:gridCol w="30430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 дон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ирующие орг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дон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нто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ая -обеспечение работы офи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юст, ГР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ые служ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орга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ские благотворительные со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иссия по МТиГ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жар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инспе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бюджетные фо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КО, представительства иностр. организ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ие организа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ие орган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ые лиц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04920" y="119160"/>
          <a:ext cx="8534160" cy="6619680"/>
        </p:xfrm>
        <a:graphic>
          <a:graphicData uri="http://schemas.openxmlformats.org/drawingml/2006/table">
            <a:tbl>
              <a:tblPr/>
              <a:tblGrid>
                <a:gridCol w="2284200"/>
                <a:gridCol w="3206880"/>
                <a:gridCol w="30430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 дон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ирующие орг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дон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нто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ая -обеспечение работы офи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юст, ГР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ские благотворительные со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иссия по МТиГ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органы Федеральные службы Пожар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инспе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бюджетные фо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КО, представительства иностр. организ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ие организа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ие орган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ые лиц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струменты контрол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5 год – паспорт благотворительной организации (г. Моск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9 год – удостоверение программы международной технической и гуманитарной помо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1 год - перечень организаций, выдающих индивидуальные гра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2 год – перечень организаций, выдающих гранты Н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2 год – «перечень» благотворительных организаций, помощь которых не облагается НДФ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то проверяю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для выдачи паспорта БО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по форм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 финансово-хозяйственной деятельности за последний год по фор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пии учредительных доку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то проверяют (для получения удостоверения программы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шение об оказании гуманитра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ической помо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редительные документы получателя помо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тверждение госоргана страны-дон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язательство органа власти России по контролю за целевым использованием помощ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то проверяют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для продления аккредитаци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ставитель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ятельности на территории Российской Федераци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иод 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 (38 пунктов) включающий в себя среди прочего в т.ч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чень сделок, заключенных при посредничестве Представитель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исленность российского и иностранного персонала и данные на каждого сотруд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редительные и иные документы головного офи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то проверяю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для включения в перечень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68292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гистр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рга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92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организ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92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и кем образована и какие цели и задачи она преследу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92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кой цели выплачиваются гра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92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ссийской Федерации и ее государственных органов, общественных организаций и граждан в деятельности организации и принятии решений при выплате гра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92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величине гра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92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получателей грантов за последние 3 года (при большом количестве получателей – количество выданных гран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92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ект изменений в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. 251 НК Р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ширение сфер предоставления гранто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бавляются: охрана здоровья населения (направления - СПИД, наркомания, детская онкология, включая онкогематологию, детская эндокринология, гепатит и туберкулез), защ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 и свобод человека и гражданина, социальное обслуживания малоимущих и социально не защищенных категорий гражд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11:53:21Z</dcterms:created>
  <dc:creator>Nastia</dc:creator>
  <dc:description/>
  <dc:language>en-US</dc:language>
  <cp:lastModifiedBy>present</cp:lastModifiedBy>
  <dcterms:modified xsi:type="dcterms:W3CDTF">2004-11-19T06:32:01Z</dcterms:modified>
  <cp:revision>18</cp:revision>
  <dc:subject/>
  <dc:title>Презентация PowerPoint</dc:title>
</cp:coreProperties>
</file>