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B1EA-A9E4-4097-95F1-314BEA82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3B1E-E78F-4A29-B243-7FD4F2F9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C5C-3E06-4913-8C30-F2D10D71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179-4442-40CC-95A6-43BB82C8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0616-F074-46E3-9838-F7C9D01E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3983-35BE-481B-A37A-50784142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1C54-B79A-49D4-B429-E5B0AD38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3B29-7D5D-4DF3-84C2-A1B35195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0EDE-FD66-49E5-9547-1A5B9341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DF4B-050C-4C01-8459-718EEDA1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3E30-8F58-4A32-AA18-391BE1FB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50E-747D-4648-A0E2-9A392C2A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926C-ED72-4C9E-810C-2DD461C4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0CBB-6727-4CEE-BF72-903A397C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9D75-D7C7-4941-AA20-D78EF7F3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2BFB-DD28-4049-B322-19C5F72E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14DF-024D-4D14-AA20-3C1795CC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1956-EDC6-4397-9AD1-9AF86989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6D0-4354-4D3E-8B99-F2ABF6AB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2119-31F4-4060-942A-597A9070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C10E-741B-43BC-9FCC-37CB32CD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0D4-DDC6-40C7-84AC-63F03E27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E235-970B-4194-9541-18B4A9D3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35E-41F6-4B6C-82D2-CF195CAF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EDB0-66FA-431D-BF1A-E9716965392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8107-2DCB-4A37-A70F-363FAACF962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Этические стандарты в донорской деятельности социально уязвимых груп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ристофер Кава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АЙРЕКС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ограмма «Помощь детям-сирот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 Росси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909720" cy="1523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543800" y="380880"/>
            <a:ext cx="99684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ритерии донорской деятельности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зделение ресурсов 50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50 для обучения и технической поддержки в рамках гран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ивлечение специалистов психолого-социальной сферы, а не только профессиональных  грантмейке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Это последовательный процесс. Не торопитесь тратить средства и разрабатывать «показные»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57200" y="228600"/>
            <a:ext cx="909720" cy="16765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543800" y="457200"/>
            <a:ext cx="99684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808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ы несем ответственность за выдаваемые нами гранты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 также за их влияние на наших грантополучател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ачество результата – это наша ответственность, а не их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909720" cy="16765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543800" y="457200"/>
            <a:ext cx="99684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оциально уязвимые группы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мьи, находящиеся в кризисной ситуации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лкоголизм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сексуальное насилие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 т.д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Дети в детских домах и находящиеся под опекой Правитель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оститу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Женщины, страдающие от домашнего насил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ИЧ-инфицированные лю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457200" y="228600"/>
            <a:ext cx="909720" cy="1523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7467480" y="457200"/>
            <a:ext cx="9972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520" y="277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итуация на текущий момент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оссия сегодня переживает «Большой социальный эксперимент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астет число социально уязвимых груп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высилось внимание к экономическим и структурным аспектам в социальной защите нас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57200" y="228600"/>
            <a:ext cx="909720" cy="1523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7467480" y="457200"/>
            <a:ext cx="9972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120" y="277920"/>
            <a:ext cx="586764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ритерии работы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 социально уязвимыми групп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же страдают от многократных психолого- социальных пробл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меют больший потенциал сделать плохо, чем хорош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е могут исправить те ошибки, которые уже соверш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57200" y="228600"/>
            <a:ext cx="909720" cy="1676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7467480" y="457200"/>
            <a:ext cx="9972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становка мандата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остоинство и ценность каждого грантополуча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ажность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омпетентность и целостность услу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Этический ко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:  “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циональная ассоциация социальных  работников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467480" y="457200"/>
            <a:ext cx="997200" cy="1027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457200" y="228600"/>
            <a:ext cx="909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Критерии донорской деятельн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ак определить, безопасен ли проект для финансирова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Если проект достоин финансирования, как гарантировать минимальный риск или ущерб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ак проводить мониторинг проектов с целью обеспечения безопасности от ущерба грантополучателя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57200" y="228600"/>
            <a:ext cx="909720" cy="1676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7543800" y="380880"/>
            <a:ext cx="99684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60958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ак определить, безопасен ли проект для финансирован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едпроектная эксперти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типичный вид проектной экспертизы, в то же время является психологической диагностикой текущей ситуации, в которой пребывают грантополуча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едупреждающий спис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кспертиза ситуаций, которые могут возникнуть по психолого-социальным проблемам в ходе реализации про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57200" y="228600"/>
            <a:ext cx="909720" cy="1676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543800" y="609480"/>
            <a:ext cx="99684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5638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Если проект достоин финансирования, как гарантировать минимальный риск или ущерб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едпроектный тренинг и повышение квалифик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Убедиться, что потенциальные грантополучатели осознают психолого-социальные последствия своей деятельности в полном объеме и достаточно компетентны для реализации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сключить компоненты, в которых квалификация грантополучателей низ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Двигаться к цели мелкими шагами, не торопя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льзя продолжать поддержку некачественного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457200" y="228600"/>
            <a:ext cx="909720" cy="1676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7467480" y="533520"/>
            <a:ext cx="9972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560" y="277560"/>
            <a:ext cx="601956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ак проводить мониторинг проекта с целью обеспечения безопасности от ущерба грантополучателям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офессиональный психолого-социальный мониторин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ыявляет преимущества и возможный ущерб целевой груп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уществляет руководство над исполнителями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слуги по поддержке грантополуча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елефон горячей ли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уководство, осуществляемое квалифицированными специалист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457200" y="228600"/>
            <a:ext cx="909720" cy="1676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7543800" y="457200"/>
            <a:ext cx="99684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6:52:52Z</dcterms:created>
  <dc:creator>chris</dc:creator>
  <dc:description/>
  <dc:language>en-US</dc:language>
  <cp:lastModifiedBy>chris</cp:lastModifiedBy>
  <dcterms:modified xsi:type="dcterms:W3CDTF">2004-11-18T09:39:33Z</dcterms:modified>
  <cp:revision>6</cp:revision>
  <dc:subject/>
  <dc:title>Ethical Standards in Grantmaking to Socially Vulnerable Group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777288</vt:r8>
  </property>
  <property fmtid="{D5CDD505-2E9C-101B-9397-08002B2CF9AE}" pid="3" name="_AuthorEmail">
    <vt:lpwstr>boris@fondtol.infopac.ru</vt:lpwstr>
  </property>
  <property fmtid="{D5CDD505-2E9C-101B-9397-08002B2CF9AE}" pid="4" name="_AuthorEmailDisplayName">
    <vt:lpwstr>Борис Цирульников</vt:lpwstr>
  </property>
  <property fmtid="{D5CDD505-2E9C-101B-9397-08002B2CF9AE}" pid="5" name="_EmailSubject">
    <vt:lpwstr>презентации</vt:lpwstr>
  </property>
</Properties>
</file>