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1C362-0D70-43AA-AB90-9D46777A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D245A-479C-46DD-9627-9BB296C8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1B3E-52FA-4EA8-A926-61277C7D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86B2D-6920-4B44-9550-9BE49017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4DE1-ADC0-4EE5-B1DC-57BAE4F2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8599-9EC1-4186-B4A0-94A4695F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F1FD-FF57-438A-B711-4D5B1220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6D4F-69B8-42E5-87B9-8AAFC07A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BA0D-36B9-4D60-9435-699252F1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D284-2581-4FF0-AC6B-26A81B68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A6B5-48EF-4FE9-9AE7-48E618AE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BA2E-19F6-42BD-AF76-0C125001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1318-11EA-4A3A-AAD0-B2C10A45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B347-3C79-4634-B351-88290D61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C136-A7B5-4FF4-ADC1-CB9ACB28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92AC-F5A7-418B-815D-CFF1935A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0226-4320-4B40-AF3A-0F0DAC49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7A36-153F-479A-BCAB-C80994A1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8836-5D2D-48F0-96A6-D52C4A1E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4D33-E0EE-4E70-A0B9-1B342B13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01D8-D97D-4DAB-AB03-6D6F0021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9A08-9964-445C-9917-9A6C3849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3CBD-677A-4140-92F2-B0C863BB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91AB-7F57-494B-B9FB-BCB14C87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83CD-CFF3-4EB2-BA3A-D2C919C0D7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E10A-19A0-4634-BBE5-80BB0BE0C6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International Practices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Relating to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State Supervision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of Donor Activ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David Mo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International Center f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"/>
              </a:rPr>
              <a:t>Not-for-Profit L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rtification Thresho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ational Good Practice: There should be NO registration / certification / accreditation procedure at a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ors free to provide support to beneficiaries without threshold requirement specific to don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prove the good regulatory practice, we will examine examples of bad regulatory practice – where the state seeks to burden donors /grant-making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ior Government Approv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rus: Decree #8 (200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e permission required for use of funds received from international organiz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urkey: Laws regulating found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undations seeking to “cooperate” with foreign organizations must receive prior government approv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vernment Li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sts of Foreign Grant Mak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lar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zakhst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zbekist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rkmenist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s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st of Domestic Grant Mak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ssia (proposed tax code amendme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rbian Draft Law on Don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ited purposes donations can 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ited potential recipients of don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datory donation agre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mission of all donation agreements to Ministry of Foreign Economic Affai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x Treatment of Grants/Don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me from grants/donations is typically exempt from tax in European coun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some countries (Bulgaria, Latvia, Lithuania, Poland), a full tax exemption is prescribed only for public benefit organiz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e issue affecting donor activity = classification of “public benefit” activi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x Treatment of Grants/Don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me from grants/donations is typically exempt from tax in NIS coun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countries distinguish between treatment of local and foreign donors, providing greater scrutiny to foreign don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x-exempt contributions may be available only for narrow purpos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ax Incentives for Donor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a favorable environment encouraging charitable don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not in and of themselves sufficient to promote charitable gi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x Incentives for Don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x dedu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ductions reduce the amount of income subject to tax (the tax bas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ductions are the most common form of benefit gran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x cred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dits reduce the amount of tax ow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tvia -- 85% of a contribution can be claimed as a tax credit, but only up to 20% of the wholly assessed tax liabilit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ungary – 30% of donation can be claimed as tax credit, but only up to 50,000 HUF (200 Euro) for PB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entives for Corporate Don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CEE Countries permit legal entities (including businesses) to claim benefits for certain donations to NGOs (except Macedon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NIS Countries offer some tax advantages for corporate giving (except Azerbaijan, Belarus, Georgia, Russ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igible Recipi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 rule: To be able to claim deduction, donor must give donation to organizations pursuing some enumerated “public benefit” purpo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ypical “PB” purposes: health, humanitarian, cultural, educational, scientific or amateur sports purp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igible recipients may include municipalities (Bulgaria), individuals and businesses (Kosovo), but nearly always include NGO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se Best Practic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is NO consensus within the grant-making or donor community as to what constitutes “best practices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jurisdictions approach the regulation of grant makers and donors from different constitutional, legal, regulatory framewor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mitations on Amount of De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countries limit the amount of deduction or credit that legal entity can clai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able deduction ranges from 0.5% of revenue (Bosnia) to 40% of taxable income (Lithuani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duction limited to % of gross income or revenue (Bosnia, Croatia, Serbia, Slovenia) (0.5%, 3%, 3.5%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duction limited to % of taxable income or pre-tax profit (Albania, Czech Republic, Romania, Bulgaria, Slovakia, Poland, Hungary, Lithuania) (5%, 10%, 20%, 40%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entives for Individual Don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½ of all CEE countries provide incentives for individual dono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½ of all NIS countries provide incentives for individual dono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countability and Transparency of Donor Organiza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aw sets minimum legal standa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elf-regulation should be encourag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egal supervision should be proportionate to risk of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Risk of excessive government interfer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Subsequent monitoring regulation more effective than preliminary threshold restri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al Govern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zation should have adequate governing struct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verning instruments / Governing bod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hibition on direct/indirect private benef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hibition against conflicts of inte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ies of dire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al report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al Repor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est governing body (ex: board) should be required to receive and approve reports on activities and finances of organiz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al body (ex: audit commission) should have authority to inspect books and rec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pendent audit required for organizations with substantial activ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ncial/Program Transpar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ounting / Record-keep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or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upervisory body and tax author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aduated reporting frame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ecial reporting requirements for don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losure to Publ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public to exercise overs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ncial/Program Transpar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dits and Inspe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y supervisory or tax author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dural Safeguard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San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ss of status, loss of tax 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rmin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al Principles or Guideli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Treasury Department Anti-Terrorist Financing Guidelines: Voluntary Best Practices for US-based char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cial Action Task Force on Money Laundering: Combating the Abuse of Non-profit Organizations: International Best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ti-Terrorist Financing Proced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nt-makers should take the following steps before any charitable funds are distributed to foreign recipient organiz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llect basic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duct basic vet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view financial operations of recipi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uidelines subject to substantial critic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to find the correct balance between donor transparency and freedom in grant making and philanthrop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going strugg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gal frame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lementation of la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f-regulation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se Best Practic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ational Practic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ed on regulatory practices in Europe and NIS countr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ed on voluntary guideli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ank you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vid Mo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N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 of Pres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nciples Guiding Establishment of Best Pract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?: Purposes of Supervi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o?: Supervisory Bod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?: Potential Areas of Regulatory Contr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rtification threshol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x treatment of grants/donations, don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countability and transparency of donor organiz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ecial Statements on 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uiding Princip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itable sector as vital to social and economic develop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sight of donors/NGOs is cooperative undertak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vernment oversight should be flexible, effective and proportional to risk of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-profit sector often has representational, self-regulatory, watchdog, and accreditation organiz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? Purposes of Supervi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encourage charitable activity (donations/grants for public benefit purpos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ensure government tax relief and benefits go to appropriate organiz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maintain public confidence through combating waste and frau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ensure compliance with the l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rposes of Supervi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’m not looking for the big, bad monster of a  government bureaucrat coming down on a sector … but we need to make sure that money taken in for charitable purposes is used for charitable purposes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ator Grassl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ir of US Senate Finance 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? Supervisory Bod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administration (ministries, local gov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w enforcement and security offic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vernment bank, tax, financial regulatory author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ized government regulatory bod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al self-reg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parties (watchdogs, the publi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bject of Supervision: What?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reas of Regulatory Contr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state supervision impacts on donor acti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tification thresho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x treatment of grants/donations, don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untability and transparency of donor organiz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International Center for Not-for-Profit Law 2004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4T17:08:49Z</dcterms:created>
  <dc:creator>cshea</dc:creator>
  <dc:description/>
  <dc:language>en-US</dc:language>
  <cp:lastModifiedBy>present</cp:lastModifiedBy>
  <dcterms:modified xsi:type="dcterms:W3CDTF">2004-11-19T06:13:56Z</dcterms:modified>
  <cp:revision>21</cp:revision>
  <dc:subject/>
  <dc:title>Promoting Philanthropy: the Role of Tax Benefi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22083496</vt:r8>
  </property>
  <property fmtid="{D5CDD505-2E9C-101B-9397-08002B2CF9AE}" pid="3" name="_AuthorEmail">
    <vt:lpwstr>nbourj@ICNL.ORG</vt:lpwstr>
  </property>
  <property fmtid="{D5CDD505-2E9C-101B-9397-08002B2CF9AE}" pid="4" name="_AuthorEmailDisplayName">
    <vt:lpwstr>Natasha Bourjaily</vt:lpwstr>
  </property>
  <property fmtid="{D5CDD505-2E9C-101B-9397-08002B2CF9AE}" pid="5" name="_EmailSubject">
    <vt:lpwstr>tax overview presentation</vt:lpwstr>
  </property>
  <property fmtid="{D5CDD505-2E9C-101B-9397-08002B2CF9AE}" pid="6" name="_PreviousAdHocReviewCycleID">
    <vt:r8>958462308</vt:r8>
  </property>
  <property fmtid="{D5CDD505-2E9C-101B-9397-08002B2CF9AE}" pid="7" name="_ReviewingToolsShownOnce">
    <vt:lpwstr/>
  </property>
</Properties>
</file>