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9F0-D9D4-4D48-9EDA-CE36CFC3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825-3731-458B-B6A2-4F0239A6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9DF-473F-40E7-B229-13A658E5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163-4C87-4279-BD36-7F27E17A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519-0CC3-470D-9F84-0D932818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8BE-BE07-440A-BA6F-283A072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13A-968D-43F7-8B40-8BC70956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E16-EC32-447A-8236-47D6E5F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222-F5C2-4855-B6E8-38734072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63E-CCF3-4E1F-9A57-8592472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740-5094-48E5-B9B1-1B43E98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A27-765F-4664-B023-0B3C434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FC62-52B6-48D1-9AA0-23BB468E1103}" type="slidenum">
              <a:rPr b="0" i="1" lang="ru-RU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гей Литовчен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нительный дир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 менедж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ября 2003 г. ,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07324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Бизнес-донор или бизнес-партнер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бщественное мнение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и реальные потре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бщественн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Без%20имени-2копирование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12189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4BA-030F-4EDD-BDF5-42C7DE7D5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Взгляд на роль крупных компаний в общест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3" descr=""/>
          <p:cNvPicPr/>
          <p:nvPr/>
        </p:nvPicPr>
        <p:blipFill>
          <a:blip r:embed="rId1"/>
          <a:stretch/>
        </p:blipFill>
        <p:spPr>
          <a:xfrm>
            <a:off x="609480" y="130824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Без%20имени-2копирование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73F-254A-4145-8598-272386E77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Как узнают о социальном вкладе компаний сейчас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6" descr=""/>
          <p:cNvPicPr/>
          <p:nvPr/>
        </p:nvPicPr>
        <p:blipFill>
          <a:blip r:embed="rId1"/>
          <a:stretch/>
        </p:blipFill>
        <p:spPr>
          <a:xfrm>
            <a:off x="609480" y="1046160"/>
            <a:ext cx="7848720" cy="520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1600200"/>
            <a:ext cx="914400" cy="9144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800600"/>
            <a:ext cx="914400" cy="9144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Без%20имени-2копирование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D39-B8A5-4B1E-AB89-0783EC8CBF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егодня современный российский бизнес – крупнейший дон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о пока еще не вполне эффективный и достаточный финансист в сфере гражданских институтов, социального минимума, социальных инвести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знес играет не только бюджетоформирующую роль, но зачастую и бюджетозамещающ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знес уже активно и эффективно осваивает концепции социальных инвестиций на «территориях» ведения своих д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е фонды находятся все еще в зачаточной ста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е фонды зачастую работают на задачи, которые соответствуют потребностям не местного общества, а представлениям о них со стороны иностранных дон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115-EC3A-406F-AC80-6DA7303E2C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еству требуется разумное вовлечени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н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финансовых источников в его разви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й минимум – на совести государ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гматически выгодные бизнесу социальные инвестиции – добровольное решение бизн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новых общественных отнош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тическим фондам, общественным организациям и профессиональны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слевым объединениям (возможно, с привлечением фондов), образовательным учреждениям и академическим круг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человеческого капитала и предоставление социальных услуг – некоммерческим организациям и, частично, коммерческ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антропию – частным лицам, группам частных лиц, профессиональным агентств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12F-6236-43A2-88F0-ACEB6FC5C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сегодняшний день существуют серьезные расхождения в представлениях об источниках финансирования общественных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 и массовое общественное мнение считают, что бизнес – это «дойная коро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знес стремится быть эффективным во всех вопросах, включая свой вклад в социальную сферу, но не за счет акцио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ь управленческих элит понимает, что проект модернизации страны требует смелых шагов по «корректировке» и общественного мнения, и позиции государственной машин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МОБИЛИЗАЦИИ ОБЩЕСТВЕННЫХ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AE4-AEBD-4EBC-84CD-04343D670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требуется для мобилизации обществен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альный социальный миниму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олжен быть обеспечен государственной маши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изнес должен быть поставлен в условия тако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раведливой конкурен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которая будет наилучшим образом способствовать мобилизации ресурсов н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величение добавленной стоимости в эконом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Только открытая конкуренция превращает работу с человеческим капиталом в конкурентное преимуществ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поощряет корпорацию быть достойным граждан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стема государственных затрат должна стать более прозрачной и эффективной и распространиться на  общественные сферы (речь не о социальном минимуме, а 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осударственных источниках финансирования общественных отнош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структур гражданского общест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астные (российские и международные) источники финансиров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бщественных отношений должны получить официальное признание (налоговые льготы при условии прозрачности деятельности) и научиться больше соответствовать текущим задачам общественного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255-8078-4E93-B19B-FB125406B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любить «дойную корову» – это неразумно: нужно решительнее меня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ношение общества и государства к бизне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ост бизне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это рост доходов государственн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ост доходов государственного 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без удушения «дойного теленка» налогами и административными мерами) – это новые возмож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еспечения социального миниму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ния государственных механизмов финансирования общественных отно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рана без развитого бизнеса не может быть социальной и демократ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ько сытые граждане, эффективные компании, разумные чиновники могут создавать гражданское общество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олько при таки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словиях партнерст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является и потребность, и условия для работы фондов и общественных организаций над дальнейшим совершенствованием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273-C7A6-46C8-AB37-FF07C532F6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ратегическая задача – общественное партнерство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реднесрочная задача – развитие бизн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24D-5045-4033-8EEA-55808A3895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96080" y="1219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4880" y="105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69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Дополнительная инфор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ver_1" descr=""/>
          <p:cNvPicPr/>
          <p:nvPr/>
        </p:nvPicPr>
        <p:blipFill>
          <a:blip r:embed="rId2"/>
          <a:stretch/>
        </p:blipFill>
        <p:spPr>
          <a:xfrm>
            <a:off x="361800" y="1295280"/>
            <a:ext cx="2762280" cy="4038840"/>
          </a:xfrm>
          <a:prstGeom prst="rect">
            <a:avLst/>
          </a:prstGeom>
          <a:ln w="0">
            <a:noFill/>
          </a:ln>
        </p:spPr>
      </p:pic>
      <p:pic>
        <p:nvPicPr>
          <p:cNvPr id="128" name="cover_2" descr=""/>
          <p:cNvPicPr/>
          <p:nvPr/>
        </p:nvPicPr>
        <p:blipFill>
          <a:blip r:embed="rId3"/>
          <a:stretch/>
        </p:blipFill>
        <p:spPr>
          <a:xfrm>
            <a:off x="3121200" y="2362320"/>
            <a:ext cx="2822400" cy="4038480"/>
          </a:xfrm>
          <a:prstGeom prst="rect">
            <a:avLst/>
          </a:prstGeom>
          <a:ln w="0">
            <a:noFill/>
          </a:ln>
        </p:spPr>
      </p:pic>
      <p:pic>
        <p:nvPicPr>
          <p:cNvPr id="129" name="cover_3" descr=""/>
          <p:cNvPicPr/>
          <p:nvPr/>
        </p:nvPicPr>
        <p:blipFill>
          <a:blip r:embed="rId4"/>
          <a:stretch/>
        </p:blipFill>
        <p:spPr>
          <a:xfrm>
            <a:off x="5946840" y="1600200"/>
            <a:ext cx="289224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384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4F1-52E6-4A37-A509-B9621FF737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96080" y="1219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4880" y="105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95400"/>
            <a:ext cx="8077320" cy="6457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00400" y="3276720"/>
            <a:ext cx="41148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ww.amr.r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52A-1B32-4FF9-A528-6BAF9CBD55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бизнеса-донора к бизнесу-партн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выступ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нное м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корпоративной социальной ответств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материале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 менеджеров России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ое общественное м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ценка бизн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ы формирования общественного м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льные потребности общественн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538-2E3A-4A5A-8F80-5EA495AC4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Общественное мнение</a:t>
            </a:r>
            <a:br>
              <a:rPr sz="3600"/>
            </a:b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о корпоративной социальной ответственности (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Case Study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05740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 - 1200 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овое сообщество - 300 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 респондентов – качественные структурированные интервью с лидерами общественного м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тная группа – оценка дизайна и результатов исслед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5181480"/>
            <a:ext cx="7924680" cy="11912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Профиль ожиданий, оценок и приоритетов социальной ответственности компаний в России – глазами общественности, власти и С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972-3790-47D0-B532-89F758520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990720"/>
            <a:ext cx="3886200" cy="990360"/>
          </a:xfrm>
          <a:prstGeom prst="downArrowCallout">
            <a:avLst>
              <a:gd name="adj1" fmla="val 98110"/>
              <a:gd name="adj2" fmla="val 98101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990720"/>
            <a:ext cx="3886200" cy="990360"/>
          </a:xfrm>
          <a:prstGeom prst="downArrowCallout">
            <a:avLst>
              <a:gd name="adj1" fmla="val 98110"/>
              <a:gd name="adj2" fmla="val 98101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5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Выборка о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133720"/>
            <a:ext cx="5105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се города с населением более 500 тыс.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32 гор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скв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. Петербург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ронеж; Рязань; Липецк; Нижний Новгор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ратов; Пермь; Екатеринбург; Челябинс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восибирск; Красноярск; Иркутск; Хабаровс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жевск; Самара; Тольятти; Кемеров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зань; Омск; Набережные Челн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тов-на-Дону; Тюмень; Владивосто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арнаул; Краснодар; Уфа; Волгогра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енбург; Ярославль; Ульяновск; Пен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33720"/>
            <a:ext cx="266724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город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СП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бур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сибирс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оярс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жний Новгор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од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9C0-C29A-4315-A5F1-DFFD97AAE9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Профиль мнений населения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(основные выв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95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52760"/>
            <a:ext cx="80769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ания должна делать больше, чем просто зарабатывать деньги. Репутация  компании как социального партнера не сформиров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ции о социальных программах и социальной ответственности компа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оч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ее источники – не сами компании, а С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стоверность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ейс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нформации оценивается низко, «потребители» заинтересованы в корпоративных социальных отчет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6019920"/>
            <a:ext cx="7467480" cy="5205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Потребительский»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38480" y="5348160"/>
            <a:ext cx="1295640" cy="671760"/>
          </a:xfrm>
          <a:prstGeom prst="downArrow">
            <a:avLst>
              <a:gd name="adj1" fmla="val 60787"/>
              <a:gd name="adj2" fmla="val 66505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0C5-A914-4F0D-8689-7D4FDCB11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Специфика мнений делового сообществ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(основные выв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95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305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ая роль компании воспринимается через эффективное ведение бизнеса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кла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 развитие социально-экономическо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ании  являются одним из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лючев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оциальных парт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год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ирова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 социальной ответственности компаний в настоящий момен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эффекти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6024600"/>
            <a:ext cx="7467480" cy="5205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Партнерский подход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9880" y="5348160"/>
            <a:ext cx="1295640" cy="671760"/>
          </a:xfrm>
          <a:prstGeom prst="downArrow">
            <a:avLst>
              <a:gd name="adj1" fmla="val 60787"/>
              <a:gd name="adj2" fmla="val 66505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785-E61E-419A-AFE7-431C89D12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Лидеры общественного мнения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(основные выв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5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163520"/>
            <a:ext cx="807696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икто не хочет начинать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И: «объясните нам, что это и мы объясним наро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полнительная власть: «мы объясним бизнесу, что это тако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одательная власть: «никто ничего не понимае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овое сообщество: «мы делаем это настолько, насколько позволяет среда и выгоды для бизнес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826240"/>
            <a:ext cx="7467480" cy="9554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Разрыв в коммуникация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(отсутствие довер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67120" y="5072040"/>
            <a:ext cx="1295280" cy="671400"/>
          </a:xfrm>
          <a:prstGeom prst="downArrow">
            <a:avLst>
              <a:gd name="adj1" fmla="val 60787"/>
              <a:gd name="adj2" fmla="val 66505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A64-EDA6-4162-A60D-48033C1CE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Доверие к способности действовать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на благо общественного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Без%20имени-2копирование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pic>
        <p:nvPicPr>
          <p:cNvPr id="84" name="1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48640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505320"/>
            <a:ext cx="914400" cy="9144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FF5-8431-40FE-BE23-632E1F3ED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Критерии оценки социальной ответственности комп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2" descr=""/>
          <p:cNvPicPr/>
          <p:nvPr/>
        </p:nvPicPr>
        <p:blipFill>
          <a:blip r:embed="rId1"/>
          <a:stretch/>
        </p:blipFill>
        <p:spPr>
          <a:xfrm>
            <a:off x="762120" y="1144440"/>
            <a:ext cx="7772400" cy="510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1219320"/>
            <a:ext cx="914400" cy="9144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5530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 Ассоциация менеджеров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Без%20имени-2копирование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28600" y="6551640"/>
            <a:ext cx="228600" cy="2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2DF-15EA-442D-82F5-804148CACE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15:29:33Z</dcterms:created>
  <dc:creator>skubyshko</dc:creator>
  <dc:description/>
  <dc:language>en-US</dc:language>
  <cp:lastModifiedBy>boss</cp:lastModifiedBy>
  <dcterms:modified xsi:type="dcterms:W3CDTF">2003-12-24T01:07:33Z</dcterms:modified>
  <cp:revision>171</cp:revision>
  <dc:subject/>
  <dc:title>Презентация PowerPoint</dc:title>
</cp:coreProperties>
</file>