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305-6C20-4BDE-865C-11DBAE88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B90-8456-40C7-AF37-9F925683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023-FBF7-4497-9BAA-458BF4E4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E7E-65A5-40BD-8D16-AB808392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D67-E8D0-4BE1-B8DF-766DABA2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BCA-00AD-4E38-B8D9-DF81523D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BE2-5BC0-4A4E-B18B-BA8427BC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2F3-598A-48F9-B618-6F262278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C06-B1A5-4659-9B5C-55C82787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218-BB66-46CC-8ABC-A90FFF2B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AB6-0C69-4201-AA71-3E0301B4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E62-0862-4F6F-A436-B80C550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648D-8C7D-44D5-9BBA-5E98413BF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ИНСТИТУТ КОРПОРАТИВНОЙ БЛАГОТВОРИТЕЛЬНОСТИ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1905120"/>
            <a:ext cx="6553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4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рупные корпорации, выделяющие средства на благотвори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рпоративные благотворительные фонд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ластные структуры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зависимые российские благотворительные фон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зависимые иностранные благотворительные фонды в Росс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495680"/>
            <a:ext cx="72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сегодня 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в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жущей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илой этой системы являются только </a:t>
            </a:r>
            <a:r>
              <a:rPr b="1" lang="en-US" sz="1600" spc="-1" strike="noStrike" u="sng">
                <a:solidFill>
                  <a:srgbClr val="ffffcc"/>
                </a:solidFill>
                <a:uFillTx/>
                <a:latin typeface="Times New Roman"/>
              </a:rPr>
              <a:t>два </a:t>
            </a:r>
            <a:r>
              <a:rPr b="1" lang="en-US" sz="1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первых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элемен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143000"/>
            <a:ext cx="67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СМИ констатируют, что несмотря на то, что инфраструктура корпоративной</a:t>
            </a:r>
            <a:r>
              <a:rPr b="1" lang="en-US" sz="16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благотворительности состоит сегодня из </a:t>
            </a:r>
            <a:r>
              <a:rPr b="1" lang="en-US" sz="1600" spc="-1" strike="noStrike">
                <a:solidFill>
                  <a:srgbClr val="ffffcc"/>
                </a:solidFill>
                <a:latin typeface="Arial Narrow"/>
              </a:rPr>
              <a:t>пяти</a:t>
            </a:r>
            <a:r>
              <a:rPr b="1" lang="en-US" sz="16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 основных составляющих часте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иаграмма 1. Благотворительность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отношение позитивных, нейтральных и негативных материалов в российской прессе за период 01.01.2002-30.06.2003г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7920" y="2133720"/>
          <a:ext cx="6578640" cy="253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447920" y="2133720"/>
                    <a:ext cx="657864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иаграмма 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Благотворительность. </a:t>
            </a:r>
            <a:br>
              <a:rPr sz="1200"/>
            </a:b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ООТНОШЕНИЕ ПОЗИТИВНЫХ ТЕМ В ФЕДЕРАЛЬНОЙ И РЕГИОНАЛЬНОЙ ПРЕСС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676520"/>
          <a:ext cx="8229600" cy="387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22960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Диаграмма </a:t>
            </a:r>
            <a:r>
              <a:rPr b="1" lang="en-US" sz="12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en-US" sz="1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 </a:t>
            </a:r>
            <a:r>
              <a:rPr b="1" lang="en-US" sz="1200" spc="-1" strike="noStrike">
                <a:solidFill>
                  <a:srgbClr val="00ffff"/>
                </a:solidFill>
                <a:latin typeface="Times New Roman"/>
              </a:rPr>
              <a:t>Благотворительность. </a:t>
            </a:r>
            <a:br>
              <a:rPr sz="1200"/>
            </a:br>
            <a:r>
              <a:rPr b="1" lang="en-US" sz="1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ООТНОШЕНИЕ НЕГАТИВНЫХ ТЕМ В ФЕДЕРАЛЬНОЙ И РЕГИОНАЛЬНОЙ ПРЕСС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752480"/>
          <a:ext cx="8153280" cy="37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15328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рамма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Благотворительность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информационные поводы публикаций с выраженной журналистской позицией в региональной пресс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828800" y="914400"/>
          <a:ext cx="578160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578160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Частота упоминаний объектов благотвори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43000" y="554040"/>
          <a:ext cx="64771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54040"/>
                    <a:ext cx="64771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2:10:12Z</dcterms:created>
  <dc:creator>Алексей Бабков</dc:creator>
  <dc:description/>
  <dc:language>en-US</dc:language>
  <cp:lastModifiedBy>boss</cp:lastModifiedBy>
  <dcterms:modified xsi:type="dcterms:W3CDTF">2003-12-25T00:35:51Z</dcterms:modified>
  <cp:revision>8</cp:revision>
  <dc:subject/>
  <dc:title>Диаграмма 1.  Количество упоминаний западных благотворительных организаций и фондов в российской федеральной  прессе за период 01.01.2002-30.06.2003</dc:title>
</cp:coreProperties>
</file>