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CE16-EE50-4149-BFFD-C7EC4FA2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89592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68E5-0B5D-4426-91A3-1C66D3036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89592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9F9D-7D8A-4AC2-8716-53BE963A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89592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89592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89592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DFF4-A294-4C74-8BF2-EF13B88C2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F024-3A7F-4E9E-A908-5996DBFD8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4543-15A2-41F5-A5B1-693683DDE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FE66-5480-441A-96C9-80A3BE4B3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71AA-E8C2-4C65-9E0B-BAE74A607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F0B9-7A98-48A5-8FEB-79F170ABC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8A12-BE0F-4085-8636-22678F971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89592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39CD-63E3-4A70-9FC0-0BC0C474A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9592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0186-8EBA-4E0C-B804-270251661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81000" indent="-399960">
              <a:spcBef>
                <a:spcPts val="15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400040" indent="-228600">
              <a:spcBef>
                <a:spcPts val="15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819440" indent="-228600">
              <a:spcBef>
                <a:spcPts val="15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238480" indent="-228600">
              <a:spcBef>
                <a:spcPts val="1500"/>
              </a:spcBef>
              <a:buClr>
                <a:srgbClr val="8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238480" indent="-228600">
              <a:spcBef>
                <a:spcPts val="1500"/>
              </a:spcBef>
              <a:buClr>
                <a:srgbClr val="33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238480" indent="-228600">
              <a:spcBef>
                <a:spcPts val="1500"/>
              </a:spcBef>
              <a:buClr>
                <a:srgbClr val="33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00800" y="6629040"/>
            <a:ext cx="2743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728F-2E2E-47EE-8BCA-B1A2A89BA718}" type="slidenum">
              <a:rPr b="1" lang="ru-RU" sz="10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38480" y="1771560"/>
            <a:ext cx="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УМ ДОНОРОВ – 21 ноября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Представление результатов исследования «Экономическая мотивация корпоративной благотворительности»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276720"/>
            <a:ext cx="8686800" cy="7617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де взять доклад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572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060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http://sett.mpsf.org/grantees</a:t>
            </a:r>
            <a:endParaRPr b="0" lang="en-US" sz="3600" spc="-1" strike="noStrike">
              <a:solidFill>
                <a:srgbClr val="3366cc"/>
              </a:solidFill>
              <a:latin typeface="Times New Roman"/>
            </a:endParaRPr>
          </a:p>
          <a:p>
            <a:pPr marL="390600" indent="-28584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ЛИНКС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» 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ил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«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Казаков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»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для поиска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6639-4B68-44D8-8D82-41B496B69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ономическая мотивация корпоративной благотвори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Исполнитель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Научно-исследовательская лаборатория некоммерческого сектора (ЛИНКС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72880" indent="-2728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Дата: 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2002 год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2880" indent="-2728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Исследовательский коллектив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Загорулько Нина, Казаков Олег, Потапенко Марина,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евортьян Анна, Яковлев Сергей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72880" indent="-2728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Методология: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ase studi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72880" indent="-2728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Поддержка исследования была осуществлена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Московским общественным научным фондом (МОНФ)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за счет средств, предоставленных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Агентством по международному развитию США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(USAID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72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4676-6B82-4482-84A4-2FA2F3D19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129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дели благотворительного поведения корпор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Максимизация прибыли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ношение со стороны покупателей (рост продаж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Мотивация персонала (рост производительности труда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ношения с властью (сокращение издержек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6504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Максимизация полезности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За счет разделения функций собственности и менеджмента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Менеджеры могут «уклоняться» от интересов собственников, удовлетворяя их потребности в достижении статуса, власти, безопасности, престижа и т.п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65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6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3766-E667-4958-A74A-A89AC9F4B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дивидуальная благотворительность: эластичность (развитые стран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752480"/>
          <a:ext cx="8534160" cy="3738600"/>
        </p:xfrm>
        <a:graphic>
          <a:graphicData uri="http://schemas.openxmlformats.org/drawingml/2006/table">
            <a:tbl>
              <a:tblPr/>
              <a:tblGrid>
                <a:gridCol w="1447560"/>
                <a:gridCol w="3505320"/>
                <a:gridCol w="3581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о доходам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о цене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0-ые годы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 – 0,8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5 – -1,75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,3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умеренная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19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0-ые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большая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ри росте дохода на 10% пожертвования увеличиваются на 11%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ри увеличении цены на 10% пожертвование сокращается на 5%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04920" y="5529240"/>
            <a:ext cx="8458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Цена благотворительного ресурса – разница между размером пожертвования и суммой налогового освобождения</a:t>
            </a:r>
            <a:endParaRPr b="0" lang="en-US" sz="18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Например, при ставке налога 20% и отсутствии льгот цена пожертвования в 1 рубль составляет 20 копеек</a:t>
            </a:r>
            <a:endParaRPr b="0" lang="en-US" sz="18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7779-E4FF-459A-B5CE-1BAA5258B0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рпоративная благотворительность: эластичность (развитые стран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752480"/>
          <a:ext cx="8686800" cy="2949840"/>
        </p:xfrm>
        <a:graphic>
          <a:graphicData uri="http://schemas.openxmlformats.org/drawingml/2006/table">
            <a:tbl>
              <a:tblPr/>
              <a:tblGrid>
                <a:gridCol w="1447920"/>
                <a:gridCol w="7238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о доходам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0-80-ые годы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 – 1,01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0-ые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04  – 0,17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  <a:p>
                      <a:pPr marL="104760"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3366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04920" y="5334120"/>
            <a:ext cx="84582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бъем благотворительный пожертвований бизнеса не связан напрямую с уровнем налогообложения корпораций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3AFA-8619-4D5C-9083-3E662F18D7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волюция корпоративной благотвори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Филантропия бизнес-лидеров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до Второй Мировой войны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Высокая личностная мотивация «иррационального» характера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6504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Несистемная благотворительность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до 80-х годов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Заинтересованность в улучшении местного сообщества, не связанная с коммерческими интересами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6504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Социально-ответственный бизнес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с середины 80-х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Поиск баланса между интересами бизнеса и местного сообщества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6504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Стратегическая благотворительность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с 90-х годов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8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Благотворительность как самостоятельная бизнес-стратегия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CA3C-C36B-486E-9272-0CE0932B73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ссия: следствия переходного пери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Объемы не меньше, чем на Западе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На стыке филантропии бизнес-лидеров и несистемной благотворительности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(малый и средний бизнес – отсутствие стратегии, крупный бизнес – институализация)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. В любом случае – смешение личной и корпоративной благотворительности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Несовершенство законодательства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лабое разделение функций собственности и менеджмента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висимость бизнеса от властей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крытый характер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487F-70B6-44F7-87E8-BC228BBD84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ссия: основные фак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Личностные установки бизнес-лидеров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Боязнь показать себя богатым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Чувство «вины»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Снижение издержек во взаимоотношениях в представителями власти (принудительная благотворительность)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Отсутствие государственного признания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Отсутствие налоговых льгот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D2EF-BF9E-4FC9-9D30-ED04DD3F6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уда двиг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нижать зависимость бизнеса от власти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Не настаивать на налоговых льготах – только в перспективе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Усилить признание – у государства должна быть четко обозначенная политика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-28584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Развивать инфраструктуру (фандрайзинговые институты, мониторинг и исследования, стандарты бизнес-ассоциаций)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906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F7F6-4281-4980-A3B0-BEBA31B4C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8:28:36Z</dcterms:created>
  <dc:creator>LINKS</dc:creator>
  <dc:description/>
  <dc:language>en-US</dc:language>
  <cp:lastModifiedBy>boss</cp:lastModifiedBy>
  <dcterms:modified xsi:type="dcterms:W3CDTF">2003-12-24T01:07:18Z</dcterms:modified>
  <cp:revision>61</cp:revision>
  <dc:subject/>
  <dc:title>Презентация PowerPoint</dc:title>
</cp:coreProperties>
</file>